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8.png" ContentType="image/png"/>
  <Override PartName="/ppt/media/image25.jpeg" ContentType="image/jpeg"/>
  <Override PartName="/ppt/media/image32.png" ContentType="image/png"/>
  <Override PartName="/ppt/media/image24.jpeg" ContentType="image/jpeg"/>
  <Override PartName="/ppt/media/image21.jpeg" ContentType="image/jpeg"/>
  <Override PartName="/ppt/media/image18.jpeg" ContentType="image/jpeg"/>
  <Override PartName="/ppt/media/image16.png" ContentType="image/png"/>
  <Override PartName="/ppt/media/image8.png" ContentType="image/png"/>
  <Override PartName="/ppt/media/image22.jpeg" ContentType="image/jpeg"/>
  <Override PartName="/ppt/media/image7.png" ContentType="image/png"/>
  <Override PartName="/ppt/media/image34.jpeg" ContentType="image/jpeg"/>
  <Override PartName="/ppt/media/image19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20.jpeg" ContentType="image/jpeg"/>
  <Override PartName="/ppt/media/image31.jpeg" ContentType="image/jpeg"/>
  <Override PartName="/ppt/media/image33.jpeg" ContentType="image/jpeg"/>
  <Override PartName="/ppt/media/image6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7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4.png" ContentType="image/png"/>
  <Override PartName="/ppt/media/image1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F39F-ADC0-4055-A2E4-C37782AB0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3D4B-DE32-46ED-ACD2-66DE0E336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1CDA-DC08-495B-A006-CEE10C880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147D-A0B2-4C59-9705-50855DC77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F961A-A028-43E9-858D-432D6630B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985AC-E4E8-452A-A06C-E942C5C11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20ACD-E15E-42AF-87BB-078847A01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CFB90-57E9-4C4D-B027-19AEC9357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6CB3E-44F6-4921-9C94-317CB499F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D6701-B990-436C-BD9B-F45238B9A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897C1-467F-4DFC-A655-B7E2E3E34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3977-395B-4B26-B07B-F3E3E3BF8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F98B1-1F36-4178-892A-29B7894EB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42B4B-214F-4170-A101-D2FF54192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17FE8-4A78-4077-81E5-74519151C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571AE-1C37-4C9C-A17C-26BD246DB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BACA1-DD1D-43C2-90DA-C22BF769A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C5174-9A8A-4724-9398-AFAA8532C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1B8C9-F4D2-4A04-B8D1-2B864358C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FA3FE-C4AD-4242-9FDB-A436748CE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ACEAD-1F66-4529-9F58-341C098A6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4FC4D-B2E9-497A-8134-E69B56FD9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79E3-4458-42A1-A2E1-09671DDF0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3BB68-2B5C-486D-A09F-27A83186A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43E4B-B21E-46B9-AD88-C2F2EEEE0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BF483-AAEC-49EE-96D3-86046AB82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C520E-2F8A-4DB2-8A09-39BFAD34F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79F7A-CBD1-4BEC-8D4A-DF5439AF9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9198E-4120-4CF2-A523-F24180646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287DF-2279-49E1-96FC-C306E2E00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9545E-2631-48C3-9D23-138BFFEB9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B042E-BBBF-4454-AA4C-8FBC20DE2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D12E97-5075-42AF-8C9F-619931D8B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97F6-8572-4208-8283-1B471863E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857AF2-3F3A-4C63-B307-1EA53730D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756A18-4655-465B-B4D2-DEC8E2F1D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87AA7-2DF0-4BFD-9B7B-402EB189C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AD3DA-D546-4F8E-86BC-422C2A04E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CF0D2-615F-4DBA-AB55-C19CE8C2E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9C6B5B-2F59-4373-A9E6-5DBBF2E4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FC1322-74D3-4DD5-9080-5CE334BDC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25509-C40E-437F-BCF8-7084670B7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7BE22-F14D-4433-84B0-9F6817168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29BD-3E63-4F05-846E-ADDABB32B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A64B-9A82-4F9F-803F-5D89B3CEC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DD75-EC5B-48C1-9D77-9EE0450B1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E738-46D4-4194-8405-8D70EC307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CC60-6C84-483C-A877-1BC61F4B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02DEF-FD84-4E5F-97D2-C9742FCA39F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3A341-A7E6-4456-83D9-6061F71D1C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C317C-BF7C-4FF4-9B62-D8D2BCF1D9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669DF-2CAF-4DFD-8FCC-AA27D49930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214200" y="2071800"/>
            <a:ext cx="871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200" spc="-1" strike="noStrike">
                <a:solidFill>
                  <a:srgbClr val="002060"/>
                </a:solidFill>
                <a:latin typeface="Cambria"/>
              </a:rPr>
              <a:t>ДЕНТОГЕНЕ</a:t>
            </a:r>
            <a:r>
              <a:rPr b="1" lang="sr-Latn-CS" sz="42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sr-CS" sz="4200" spc="-1" strike="noStrike">
                <a:solidFill>
                  <a:srgbClr val="002060"/>
                </a:solidFill>
                <a:latin typeface="Cambria"/>
              </a:rPr>
              <a:t>ИНФЕКЦИЈЕ</a:t>
            </a:r>
            <a:r>
              <a:rPr b="1" lang="sr-Latn-CS" sz="42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sr-CS" sz="4200" spc="-1" strike="noStrike">
                <a:solidFill>
                  <a:srgbClr val="002060"/>
                </a:solidFill>
                <a:latin typeface="Cambria"/>
              </a:rPr>
              <a:t>МЕКИХ</a:t>
            </a:r>
            <a:r>
              <a:rPr b="1" lang="sr-Latn-CS" sz="42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sr-CS" sz="4200" spc="-1" strike="noStrike">
                <a:solidFill>
                  <a:srgbClr val="002060"/>
                </a:solidFill>
                <a:latin typeface="Cambria"/>
              </a:rPr>
              <a:t>ТКИВА</a:t>
            </a:r>
            <a:r>
              <a:rPr b="1" lang="sr-Latn-CS" sz="42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sr-CS" sz="4200" spc="-1" strike="noStrike">
                <a:solidFill>
                  <a:srgbClr val="002060"/>
                </a:solidFill>
                <a:latin typeface="Cambria"/>
              </a:rPr>
              <a:t>ЛИЦА</a:t>
            </a:r>
            <a:r>
              <a:rPr b="1" lang="sr-Latn-CS" sz="42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sr-CS" sz="4200" spc="-1" strike="noStrike">
                <a:solidFill>
                  <a:srgbClr val="002060"/>
                </a:solidFill>
                <a:latin typeface="Cambria"/>
              </a:rPr>
              <a:t>И</a:t>
            </a:r>
            <a:r>
              <a:rPr b="1" lang="sr-Latn-CS" sz="42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sr-CS" sz="4200" spc="-1" strike="noStrike">
                <a:solidFill>
                  <a:srgbClr val="002060"/>
                </a:solidFill>
                <a:latin typeface="Cambria"/>
              </a:rPr>
              <a:t>ВИЛИЦА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1415880" y="53308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ambria"/>
              </a:rPr>
              <a:t>Доц др Слободан Лончареви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3" descr="memo grb copy"/>
          <p:cNvPicPr/>
          <p:nvPr/>
        </p:nvPicPr>
        <p:blipFill>
          <a:blip r:embed="rId2"/>
          <a:srcRect l="47095" t="0" r="41659" b="0"/>
          <a:stretch/>
        </p:blipFill>
        <p:spPr>
          <a:xfrm>
            <a:off x="762120" y="457200"/>
            <a:ext cx="653760" cy="1066680"/>
          </a:xfrm>
          <a:prstGeom prst="rect">
            <a:avLst/>
          </a:prstGeom>
          <a:ln w="0">
            <a:noFill/>
          </a:ln>
        </p:spPr>
      </p:pic>
      <p:sp>
        <p:nvSpPr>
          <p:cNvPr id="167" name="TextBox 8"/>
          <p:cNvSpPr/>
          <p:nvPr/>
        </p:nvSpPr>
        <p:spPr>
          <a:xfrm>
            <a:off x="971640" y="4149720"/>
            <a:ext cx="708660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Cambria"/>
              </a:rPr>
              <a:t>Назив предмета:</a:t>
            </a:r>
            <a:r>
              <a:rPr b="1" lang="sr-Latn-CS" sz="1400" spc="-1" strike="noStrike">
                <a:solidFill>
                  <a:srgbClr val="ffffff"/>
                </a:solidFill>
                <a:latin typeface="Cambria"/>
              </a:rPr>
              <a:t>  </a:t>
            </a:r>
            <a:r>
              <a:rPr b="1" lang="sr-CS" sz="1400" spc="-1" strike="noStrike">
                <a:solidFill>
                  <a:srgbClr val="ffffff"/>
                </a:solidFill>
                <a:latin typeface="Cambria"/>
              </a:rPr>
              <a:t>МАКСИЛОФАЦИЈАЛНА</a:t>
            </a:r>
            <a:r>
              <a:rPr b="1" lang="en-US" sz="14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sr-CS" sz="1400" spc="-1" strike="noStrike">
                <a:solidFill>
                  <a:srgbClr val="ffffff"/>
                </a:solidFill>
                <a:latin typeface="Cambria"/>
              </a:rPr>
              <a:t>ХИРУРГИЈ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Cambria"/>
              </a:rPr>
              <a:t>Предавање бр. 0</a:t>
            </a:r>
            <a:r>
              <a:rPr b="0" lang="en-US" sz="1400" spc="-1" strike="noStrike">
                <a:solidFill>
                  <a:srgbClr val="ffffff"/>
                </a:solidFill>
                <a:latin typeface="Cambria"/>
              </a:rPr>
              <a:t>2</a:t>
            </a:r>
            <a:r>
              <a:rPr b="1" lang="sr-Latn-CS" sz="14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1" lang="sr-CS" sz="1400" spc="-1" strike="noStrike">
                <a:solidFill>
                  <a:srgbClr val="ffffff"/>
                </a:solidFill>
                <a:latin typeface="Cambria"/>
              </a:rPr>
              <a:t>Час</a:t>
            </a:r>
            <a:r>
              <a:rPr b="1" lang="sr-Latn-CS" sz="1400" spc="-1" strike="noStrike">
                <a:solidFill>
                  <a:srgbClr val="ffffff"/>
                </a:solidFill>
                <a:latin typeface="Cambria"/>
              </a:rPr>
              <a:t>: </a:t>
            </a:r>
            <a:r>
              <a:rPr b="1" lang="sr-CS" sz="1400" spc="-1" strike="noStrike">
                <a:solidFill>
                  <a:srgbClr val="ffffff"/>
                </a:solidFill>
                <a:latin typeface="Cambria"/>
              </a:rPr>
              <a:t> 0</a:t>
            </a:r>
            <a:r>
              <a:rPr b="1" lang="en-US" sz="1400" spc="-1" strike="noStrike">
                <a:solidFill>
                  <a:srgbClr val="ffffff"/>
                </a:solidFill>
                <a:latin typeface="Cambri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TextBox 9" descr=""/>
          <p:cNvPicPr/>
          <p:nvPr/>
        </p:nvPicPr>
        <p:blipFill>
          <a:blip r:embed="rId3"/>
          <a:stretch/>
        </p:blipFill>
        <p:spPr>
          <a:xfrm>
            <a:off x="1504800" y="560520"/>
            <a:ext cx="554832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188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ПЕРИКОРОНАРНО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ЗАПАЉЕЊ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1520" y="1413000"/>
            <a:ext cx="803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248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од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тим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одразумевамо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запаљењ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џепов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код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зуб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који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у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роцесу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ницањ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л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олуимпактираних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зуб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248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змеђу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круниц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зуб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меког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ткив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настаје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џеп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кој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редстављ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ретенционо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место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з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остатк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хран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л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з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бактериј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т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н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тај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начин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настаје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хронично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запаљењ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кој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мож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акутно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д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егзацербир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248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Услед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дужег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рисуств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запаљењског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роцес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долаз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до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ресорпциј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кост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ерикоронарном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ределу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што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н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рендген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нимку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види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као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роширењ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ародонталн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мембран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ntitio defficil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Рад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ерикоронарној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фекциј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еких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кив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ој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след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себних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анатомских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дноса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о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ел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а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ипичн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линичк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лик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уштинск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рад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есразмерно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днос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змеђу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величи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ру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уб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едостатк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остор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оњој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вилиц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б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ај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уб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ога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ормалн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а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ик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клузал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равн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ерикоронарн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џеп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едстављ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деалн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ест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ретенциј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статака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хра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бактериј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след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ог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врл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чест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олаз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акутних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егзацербациј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акођ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уготрајних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хроничних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апаљењ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мењуј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ериод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хроничних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акутних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апаљењ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6" descr="PERICORONITIS 2"/>
          <p:cNvPicPr/>
          <p:nvPr/>
        </p:nvPicPr>
        <p:blipFill>
          <a:blip r:embed="rId2"/>
          <a:stretch/>
        </p:blipFill>
        <p:spPr>
          <a:xfrm>
            <a:off x="5940360" y="1341360"/>
            <a:ext cx="2344680" cy="23749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PERICORONITIS- CRTEZ"/>
          <p:cNvPicPr/>
          <p:nvPr/>
        </p:nvPicPr>
        <p:blipFill>
          <a:blip r:embed="rId3"/>
          <a:stretch/>
        </p:blipFill>
        <p:spPr>
          <a:xfrm>
            <a:off x="5867280" y="3887640"/>
            <a:ext cx="2417760" cy="24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ИНФЕКЦИЈЕ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МЕКИХ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ТКИВА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ПРЕДЕЛУ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ГОРЊЕ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ВИЛИ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3640" y="1628640"/>
            <a:ext cx="795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НФЕКЦИЈЕ У ПРЕДЕЛУ НЕП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НФЕКЦИЈЕ ФОСЕ КАНИ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НФЕКЦИЈЕ ОБР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НФЕКЦИЈЕ РЕТРОМАКСИЛАРНОГ ПРОСТ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ИНФЕКЦИЈЕ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ПРЕДЕЛУ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НЕП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511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67760" indent="-167760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Запаљењ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ределу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непц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настају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од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бочних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секутић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алатиналних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коренов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молара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ремолар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Виш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алатинални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оложај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корен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бочног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секутић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омогућав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овај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равац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ширења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инфекциј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току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виш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дан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раћено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јаким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боловим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развиј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ределу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непца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оток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који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касниј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избочен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виду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олулопт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јасно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ограничен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очетку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чврсте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конзистенциј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након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тог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чврсто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еластичн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касниј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с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јасно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израженим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феноменом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флуктуациј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Слузокож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хиперемичн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ливидно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црвен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бој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Н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алпацију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оток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јако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болан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Узимањ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хран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јако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отежано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Лечење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одразумева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инцизију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уз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отпору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антибиотици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6" descr="ANd9GcTvFKBZt9Vg7qx4EApYZEWnhhKGiyf2MicDxKDpuPwjyKZ6jHZu"/>
          <p:cNvPicPr/>
          <p:nvPr/>
        </p:nvPicPr>
        <p:blipFill>
          <a:blip r:embed="rId2"/>
          <a:stretch/>
        </p:blipFill>
        <p:spPr>
          <a:xfrm>
            <a:off x="5367240" y="2076480"/>
            <a:ext cx="3319560" cy="31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ИНФЕКЦИЈЕ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ОЧЊАЧКЕ ЈАМ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7640" y="1480680"/>
            <a:ext cx="514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3160" indent="-17316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фекци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едел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чњачке јам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ајчешћ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вид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абсцеса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л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филтрат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авил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ентогеног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рекл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ајчешћ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д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чњак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фицира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цист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апаљења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аксиларног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инус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фурункул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едел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ос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акођ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ог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бит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зрок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фекциј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ред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авањ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антибиотик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требн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чинит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цизиј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тр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-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л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екстраорално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ависност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д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близи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абсцес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лузокож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дносн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ож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цизиј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екстраоралн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чин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авцу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иродних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абор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региј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5409720" y="1066680"/>
            <a:ext cx="3048120" cy="27194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7" descr="Gray157"/>
          <p:cNvPicPr/>
          <p:nvPr/>
        </p:nvPicPr>
        <p:blipFill>
          <a:blip r:embed="rId3"/>
          <a:stretch/>
        </p:blipFill>
        <p:spPr>
          <a:xfrm>
            <a:off x="5410080" y="1103400"/>
            <a:ext cx="3353040" cy="27558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9" descr="untitled1329950000757"/>
          <p:cNvPicPr/>
          <p:nvPr/>
        </p:nvPicPr>
        <p:blipFill>
          <a:blip r:embed="rId4"/>
          <a:stretch/>
        </p:blipFill>
        <p:spPr>
          <a:xfrm>
            <a:off x="6046920" y="3919680"/>
            <a:ext cx="2203200" cy="26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11448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ИНФЕКЦИЈА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БУКАЛНОГ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ПРОСТО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23840" y="1052280"/>
            <a:ext cx="6019920" cy="55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апаљења букалног простора потичу од бочних зуба горњ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а исто тако и доње вилиц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ток захвата читав предео образа када инфекција потиче од бочних зуба горње вилиц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и чему гној пробија периост изнад припоја образне мускулатуре на горњој вилиц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Растресито везивно и масно ткиво образа погодују ширењу инфекци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ток иде од предње ивице </a:t>
            </a:r>
            <a:r>
              <a:rPr b="0" i="1" lang="sr-CS" sz="1800" spc="-1" strike="noStrike">
                <a:solidFill>
                  <a:srgbClr val="025198"/>
                </a:solidFill>
                <a:latin typeface="Arial"/>
              </a:rPr>
              <a:t>m</a:t>
            </a:r>
            <a:r>
              <a:rPr b="0" i="1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r>
              <a:rPr b="0" i="1" lang="sr-CS" sz="1800" spc="-1" strike="noStrike">
                <a:solidFill>
                  <a:srgbClr val="025198"/>
                </a:solidFill>
                <a:latin typeface="Arial"/>
              </a:rPr>
              <a:t>masseter</a:t>
            </a:r>
            <a:r>
              <a:rPr b="0" i="1" lang="en-US" sz="1800" spc="-1" strike="noStrike">
                <a:solidFill>
                  <a:srgbClr val="025198"/>
                </a:solidFill>
                <a:latin typeface="Arial"/>
              </a:rPr>
              <a:t>-</a:t>
            </a:r>
            <a:r>
              <a:rPr b="0" i="1" lang="sr-CS" sz="1800" spc="-1" strike="noStrike">
                <a:solidFill>
                  <a:srgbClr val="025198"/>
                </a:solidFill>
                <a:latin typeface="Arial"/>
              </a:rPr>
              <a:t>а </a:t>
            </a:r>
            <a:r>
              <a:rPr b="0" i="1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о горње усне и носа и доњег очног капк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Често се његова доња граница пружа до базе мандибул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Читав образ је тврде конзистенци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ако болан на притисак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ожа је затегнут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јајна и црве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оже се појавити висока температура и грозниц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Абсцес образа треба што је могуће раније отворити интраорал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6" descr="SKIN%20ABSCESS"/>
          <p:cNvPicPr/>
          <p:nvPr/>
        </p:nvPicPr>
        <p:blipFill>
          <a:blip r:embed="rId2"/>
          <a:stretch/>
        </p:blipFill>
        <p:spPr>
          <a:xfrm>
            <a:off x="6116760" y="3860640"/>
            <a:ext cx="2495520" cy="20862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8" descr="Subcutaneous%2Babscess%2Boriginating%2Bfrom%2Ba%2Bmandibular%2Btooth%2Bclinical%2Bphotograph"/>
          <p:cNvPicPr/>
          <p:nvPr/>
        </p:nvPicPr>
        <p:blipFill>
          <a:blip r:embed="rId3"/>
          <a:srcRect l="6942" t="0" r="0" b="0"/>
          <a:stretch/>
        </p:blipFill>
        <p:spPr>
          <a:xfrm>
            <a:off x="6116760" y="1628640"/>
            <a:ext cx="2522520" cy="21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108000" y="154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ИНФЕКЦИЈЕ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РЕТРОМАКСИЛАРНОГ</a:t>
            </a:r>
            <a:br>
              <a:rPr sz="3200"/>
            </a:b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ПРОСТОРА</a:t>
            </a:r>
            <a:r>
              <a:rPr b="1" lang="sr-Latn-C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13840" y="1285920"/>
            <a:ext cx="85870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нфекциј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вога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остор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тич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д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горњег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мњак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ож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бит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следиц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убер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анестези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чем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олаз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о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вред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венског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лексус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аснијо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нфекцијо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хематом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акођ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стеомијелитис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горње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вилиц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ож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шир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ретромаксиларн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остор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ијагностик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апаљењ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ретромаксиларног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остор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а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дређене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ешкоћ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шт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апаљив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оцес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диграв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убин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ак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чест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екстраоралн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ема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анифестних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наков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апаљењ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четно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тадијум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исутн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јак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болов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за</a:t>
            </a:r>
            <a:r>
              <a:rPr b="0" lang="sr-Latn-R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sr-Latn-RS" sz="2000" spc="-1" strike="noStrike">
                <a:solidFill>
                  <a:srgbClr val="025198"/>
                </a:solidFill>
                <a:latin typeface="Arial"/>
              </a:rPr>
              <a:t>tuber maxillae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висок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емператур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четк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тварањ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ст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и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јак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граничен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аље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оку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јављу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јак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ризмус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шт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говор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знапредовало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оцес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нтраоралн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ож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видети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езнатан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ток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хиперемиј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лузокож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з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sr-Latn-RS" sz="2000" spc="-1" strike="noStrike">
                <a:solidFill>
                  <a:srgbClr val="025198"/>
                </a:solidFill>
                <a:latin typeface="Arial"/>
              </a:rPr>
              <a:t>tuber maxillae</a:t>
            </a:r>
            <a:r>
              <a:rPr b="0" lang="sr-RS" sz="20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Висок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емператур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јачање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ризмус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јач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зражен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ток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алармантн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нац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ој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ахтевај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дузимањ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хитног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лечењ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57040" y="188640"/>
            <a:ext cx="849816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ИНФЕКЦИЈЕ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ПРЕДЕЛУ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ДОЊЕ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ВИЛИ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518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ФЕКЦИЈЕ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ЕРИМАНДИБУЛАРНОГ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ОСТ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ФЕКЦИЈЕ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БРАДНОГ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ОСТ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ФЕКЦИЈЕ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УБЛИНГВАЛНОГ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ОСТ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ФЕКЦИЈЕ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УБМАНДИБУЛАРНОГ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ОСТ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ФЕКЦИЈЕ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ТЕРИГОМАНДИБУЛАРНОГ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ОСТ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ФЕКЦИЈЕ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АРАФАРИНГЕАЛНОГ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ОСТ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ФЕКЦИЈЕ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АРОТИДНОМАСЕТЕРИЧНОГ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ОСТ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5638680" y="4419720"/>
            <a:ext cx="2895840" cy="22096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afp19990701p109-f5"/>
          <p:cNvPicPr/>
          <p:nvPr/>
        </p:nvPicPr>
        <p:blipFill>
          <a:blip r:embed="rId3"/>
          <a:stretch/>
        </p:blipFill>
        <p:spPr>
          <a:xfrm>
            <a:off x="5638680" y="4235400"/>
            <a:ext cx="2914920" cy="22464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9" descr="Pterygomandibular-Abscess"/>
          <p:cNvPicPr/>
          <p:nvPr/>
        </p:nvPicPr>
        <p:blipFill>
          <a:blip r:embed="rId4"/>
          <a:stretch/>
        </p:blipFill>
        <p:spPr>
          <a:xfrm>
            <a:off x="5773680" y="1143000"/>
            <a:ext cx="26082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7628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ИНФЕКЦИЈЕ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ПЕРИМАНДИБУЛАРНОГ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ПРОСТ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11040" y="1166400"/>
            <a:ext cx="8560080" cy="53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азив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еримандибуларн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нач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фекциј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к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ел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оњ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вилиц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Гној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оспев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спод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ериост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ак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г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већо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л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ањом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вршино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двај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д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оштаног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кив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сл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екроз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ериост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апаљењ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шир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кол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ека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кив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еримандибулар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апаљењ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астај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етежн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д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вог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ругог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ола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линичк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лик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еримандибуларног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абсцес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ож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бит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различит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екад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атолошк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остор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граничав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ањ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дручј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езнатни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ремећаје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пштег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тањ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руги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лучајевим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ахват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већ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арти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ел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оњ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вилиц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шт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аћен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пшти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лошим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тање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апаљењ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ож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ширит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усед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лож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овест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збиљних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омпликациј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шт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војо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локализацијом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двај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ериост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већој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л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ањој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вршин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д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оштаног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кив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ак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ремеће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његова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схра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стој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пасност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астанк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стеомијелитис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еримандибуларн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абсцес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ахтев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ран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хируршк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лечењ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3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ИНФЕКЦИЈЕ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БРАДНОГ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ПРЕДЕ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апаљења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дел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брад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тич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д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екутић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чњак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реб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зет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бзир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нфициран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цист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ог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дел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уб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зрочник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омењен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бо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лат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болан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еркусиј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стој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ефект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рун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уб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ретк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раум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о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диграл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ар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есец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л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годин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ож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овест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евитализације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оњих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фронталних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уб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ој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асни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зрок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нфекци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јављу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граничен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врд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јак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болан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ток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локализован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скључиво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дел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брад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ој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јачав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њен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оминенциј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ож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јак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црвен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атегнут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глатк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јајн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днос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длог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епокретна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ерапија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-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нцизиј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809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ИНФЕКЦИЈЕ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МЕКИХ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ТКИ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80960" y="1484280"/>
            <a:ext cx="8051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Неспецифичне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инфекције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меких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ткива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припадају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најучесталијим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обољењима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предела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лица</a:t>
            </a:r>
            <a:r>
              <a:rPr b="1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вилица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.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Најчешће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развијају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као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секундарне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инфекције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које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обично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потичу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из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коштаног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ткива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(</a:t>
            </a:r>
            <a:r>
              <a:rPr b="1" i="1" lang="sr-Latn-RS" sz="2400" spc="-1" strike="noStrike">
                <a:solidFill>
                  <a:srgbClr val="025198"/>
                </a:solidFill>
                <a:latin typeface="Arial"/>
              </a:rPr>
              <a:t>paradontitis apicalis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),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а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ређе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примарно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меким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ткивима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Изазивач</a:t>
            </a:r>
            <a:r>
              <a:rPr b="1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инфекције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захтева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улазно</a:t>
            </a:r>
            <a:r>
              <a:rPr b="1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место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а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то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су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мртви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зуби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потпорни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апарат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зуба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слузокожа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усне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шупљине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повреде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др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7304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ИНФЕКЦИЈЕ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СУБЛИНГВАЛНОГ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ПРОСТ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8000" y="1484280"/>
            <a:ext cx="4751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45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фекције сублингвалне ложе може настати од свих зуба доње вилиц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ада гној перфорира коштано ткиво изнад припоја </a:t>
            </a:r>
            <a:r>
              <a:rPr b="0" i="1" lang="sr-CS" sz="1800" spc="-1" strike="noStrike">
                <a:solidFill>
                  <a:srgbClr val="025198"/>
                </a:solidFill>
                <a:latin typeface="Arial"/>
              </a:rPr>
              <a:t>musculus m</a:t>
            </a:r>
            <a:r>
              <a:rPr b="0" i="1" lang="en-US" sz="1800" spc="-1" strike="noStrike">
                <a:solidFill>
                  <a:srgbClr val="025198"/>
                </a:solidFill>
                <a:latin typeface="Arial"/>
              </a:rPr>
              <a:t>y</a:t>
            </a:r>
            <a:r>
              <a:rPr b="0" i="1" lang="sr-CS" sz="1800" spc="-1" strike="noStrike">
                <a:solidFill>
                  <a:srgbClr val="025198"/>
                </a:solidFill>
                <a:latin typeface="Arial"/>
              </a:rPr>
              <a:t>loh</a:t>
            </a:r>
            <a:r>
              <a:rPr b="0" i="1" lang="en-US" sz="1800" spc="-1" strike="noStrike">
                <a:solidFill>
                  <a:srgbClr val="025198"/>
                </a:solidFill>
                <a:latin typeface="Arial"/>
              </a:rPr>
              <a:t>y</a:t>
            </a:r>
            <a:r>
              <a:rPr b="0" i="1" lang="sr-CS" sz="1800" spc="-1" strike="noStrike">
                <a:solidFill>
                  <a:srgbClr val="025198"/>
                </a:solidFill>
                <a:latin typeface="Arial"/>
              </a:rPr>
              <a:t>oideus</a:t>
            </a:r>
            <a:r>
              <a:rPr b="0" i="1" lang="en-US" sz="1800" spc="-1" strike="noStrike">
                <a:solidFill>
                  <a:srgbClr val="025198"/>
                </a:solidFill>
                <a:latin typeface="Arial"/>
              </a:rPr>
              <a:t>-</a:t>
            </a:r>
            <a:r>
              <a:rPr b="0" i="1" lang="sr-CS" sz="1800" spc="-1" strike="noStrike">
                <a:solidFill>
                  <a:srgbClr val="025198"/>
                </a:solidFill>
                <a:latin typeface="Arial"/>
              </a:rPr>
              <a:t>а</a:t>
            </a:r>
            <a:r>
              <a:rPr b="0" i="1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45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фекција врло често потиче од пародонталних абсцес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45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Анатомска грађа алвеоларног наставка и релативно танак коштани зид у пределу бочних зуба омогућава ширење инфекције ка сублингвалном простор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45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апаљење овог простора може бити последица повреда слузокоже пода уст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алкулуса у Вартоновом канал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25198"/>
                </a:solidFill>
                <a:latin typeface="Arial"/>
              </a:rPr>
              <a:t>(W</a:t>
            </a:r>
            <a:r>
              <a:rPr b="0" i="1" lang="sr-CS" sz="1800" spc="-1" strike="noStrike">
                <a:solidFill>
                  <a:srgbClr val="025198"/>
                </a:solidFill>
                <a:latin typeface="Arial"/>
              </a:rPr>
              <a:t>arton</a:t>
            </a:r>
            <a:r>
              <a:rPr b="0" i="1" lang="en-US" sz="1800" spc="-1" strike="noStrike">
                <a:solidFill>
                  <a:srgbClr val="025198"/>
                </a:solidFill>
                <a:latin typeface="Arial"/>
              </a:rPr>
              <a:t>)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анал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ао и инфицираних циста у меким ткивима пода уст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9" descr="ANd9GcRamEpxMWwVbP7r8duD7xg3MALYHSoD090Zv0GlZI2mYuC1mBnH"/>
          <p:cNvPicPr/>
          <p:nvPr/>
        </p:nvPicPr>
        <p:blipFill>
          <a:blip r:embed="rId2"/>
          <a:stretch/>
        </p:blipFill>
        <p:spPr>
          <a:xfrm>
            <a:off x="5148360" y="1844640"/>
            <a:ext cx="362088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-3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ИНФЕКЦИЈЕ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СУБЛИНГВАЛНОГ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ПРОСТ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8000" y="1118880"/>
            <a:ext cx="8856720" cy="54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spcBef>
                <a:spcPts val="45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од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имарног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апаљењ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ублингвалног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остор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ор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цел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ложа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бит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ахваће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атолошки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оцесо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45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ак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пр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фекци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о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тич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д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ародонталних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абсцеса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л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фицираних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екстракционих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ра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ајчешћ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стај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локализова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о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едел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45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ом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развиј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граничен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ак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болан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итисак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врд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ток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чврст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појен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оштан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длог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а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црвенило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лузокож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вид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убмукозног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абсцес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45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ад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апаљењ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ахватил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читав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ублингвалн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остор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д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ст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дигнут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кор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виси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ечив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виц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оњих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уб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лузокожа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ак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црве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бол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итисак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45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25198"/>
                </a:solidFill>
                <a:latin typeface="Arial"/>
              </a:rPr>
              <a:t>Plica sublingualis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тра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екриве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беличасто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ивкасти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сеудомембранам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45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зик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мерен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ем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дравој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тран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гутањ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говор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ако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тежан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болн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45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од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знапредовал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линичк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лик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јављу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ток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убмандибуларном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едел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шт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говор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аље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ширењ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фекциј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45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Формиран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абсцес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ублингвално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едел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твар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уте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аралел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цизије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оњи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убни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луко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ест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ајизражени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флуктуациј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36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ИНФЕКЦИЈЕ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СУБМАНДИБУЛАРНОГ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ПРОСТ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87080" y="1699920"/>
            <a:ext cx="649116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римарно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запаљењ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убмандибуларн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лож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настај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ширењем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одонтоген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нфекциј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од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ремолар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молар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Даљ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могућност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запаљењ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овога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ростор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услед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акутног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лимфаденитиса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и</a:t>
            </a:r>
            <a:r>
              <a:rPr b="0" lang="sr-RS" sz="2400" spc="-1" strike="noStrike">
                <a:solidFill>
                  <a:srgbClr val="025198"/>
                </a:solidFill>
                <a:latin typeface="Arial"/>
              </a:rPr>
              <a:t>ј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алоаденитис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Млечн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зуб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у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врло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ретко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узрок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нфекциј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овог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рост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5" descr="ANd9GcTQ-ak6A6kPxTIfvW5anXY503pDIDJxvNKCOrfs4SDj1-nnfTn0"/>
          <p:cNvPicPr/>
          <p:nvPr/>
        </p:nvPicPr>
        <p:blipFill>
          <a:blip r:embed="rId2"/>
          <a:stretch/>
        </p:blipFill>
        <p:spPr>
          <a:xfrm>
            <a:off x="6084720" y="2708280"/>
            <a:ext cx="24289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ИНФЕКЦИЈЕ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СУБМАНДИБУЛАРНОГ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ПРОСТ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43000"/>
            <a:ext cx="532764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3160" indent="-173160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од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имар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фекци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убмандибулар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лож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з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јав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болов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ешкоћ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гутањ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рисмус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јављу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еоштр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граничен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ток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ој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д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д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хиоид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ост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о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едњ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виц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терноклеидомастоидног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ишић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ем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апред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убментал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лож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База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андибул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ож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алпират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ам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ак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олатералн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еде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елаз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оњ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арти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браз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траоралн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еглед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след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ризмус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ост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тежан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Ак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н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огућ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а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адњи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артијам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д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ст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вид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црвенил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лузокож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ој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бол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итисак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ом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важн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онстатоват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л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фекцијо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ахваће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ублингвал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лож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акођ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арафарингеалн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остор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цизија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-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антибиотици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-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хоспитализац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6" descr="abscess_342x198_BR1T2D"/>
          <p:cNvPicPr/>
          <p:nvPr/>
        </p:nvPicPr>
        <p:blipFill>
          <a:blip r:embed="rId2"/>
          <a:stretch/>
        </p:blipFill>
        <p:spPr>
          <a:xfrm>
            <a:off x="5580000" y="1484280"/>
            <a:ext cx="3276720" cy="18986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0" descr="ANd9GcREYll3M0pByT0nEkTCAGu93NSsr5AXzfXwEsRrID7Ix28j3Xdx"/>
          <p:cNvPicPr/>
          <p:nvPr/>
        </p:nvPicPr>
        <p:blipFill>
          <a:blip r:embed="rId3"/>
          <a:stretch/>
        </p:blipFill>
        <p:spPr>
          <a:xfrm>
            <a:off x="5580000" y="3789360"/>
            <a:ext cx="3276720" cy="19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-24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ИНФЕКЦИЈЕ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СУБМАНДИБУЛАРНОГ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ПРОСТ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574120" cy="5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25198"/>
                </a:solidFill>
                <a:latin typeface="Arial"/>
              </a:rPr>
              <a:t>Инцизија-антибиотици-хоспитализа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4" descr="Neck_Abscess_Child_305SQ"/>
          <p:cNvPicPr/>
          <p:nvPr/>
        </p:nvPicPr>
        <p:blipFill>
          <a:blip r:embed="rId2"/>
          <a:stretch/>
        </p:blipFill>
        <p:spPr>
          <a:xfrm>
            <a:off x="611280" y="2141640"/>
            <a:ext cx="3735360" cy="37353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" descr="Neck_Abscess_Child_I_D_Pus_305SQ"/>
          <p:cNvPicPr/>
          <p:nvPr/>
        </p:nvPicPr>
        <p:blipFill>
          <a:blip r:embed="rId3"/>
          <a:stretch/>
        </p:blipFill>
        <p:spPr>
          <a:xfrm>
            <a:off x="4859280" y="2122560"/>
            <a:ext cx="374832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41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ffffff"/>
                </a:solidFill>
                <a:latin typeface="Arial"/>
              </a:rPr>
              <a:t>ИНФЕКЦИЈЕ</a:t>
            </a:r>
            <a:r>
              <a:rPr b="1" lang="sr-Latn-C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000" spc="-1" strike="noStrike">
                <a:solidFill>
                  <a:srgbClr val="ffffff"/>
                </a:solidFill>
                <a:latin typeface="Arial"/>
              </a:rPr>
              <a:t>ПТЕРИГОМАНДИБУЛАРНОГ</a:t>
            </a:r>
            <a:r>
              <a:rPr b="1" lang="sr-Latn-C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000" spc="-1" strike="noStrike">
                <a:solidFill>
                  <a:srgbClr val="ffffff"/>
                </a:solidFill>
                <a:latin typeface="Arial"/>
              </a:rPr>
              <a:t>ПРОСТО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41000" y="1174680"/>
            <a:ext cx="8002440" cy="52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нфекциј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овог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ростор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мож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настат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услед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ширењ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одонтогеног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запаљењ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сто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тако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након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проводн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анестезиј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25198"/>
                </a:solidFill>
                <a:latin typeface="Arial"/>
              </a:rPr>
              <a:t>n. alveolaris inferior</a:t>
            </a:r>
            <a:r>
              <a:rPr b="0" i="1" lang="sr-CS" sz="24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Услед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овред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крвних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удов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настај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хематом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кој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екундарно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нфицир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Одонтоген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нфекциј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ближ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речено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настај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скључиво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од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доњих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умњак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ремд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мож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настати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од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другог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знатно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ређ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рвог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молар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нфекциј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овог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ростор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мож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бит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такођ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току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остеомијелитис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доњ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вилиц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сто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тако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као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оследиц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нфицираних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цист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мандибул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Јављ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тризмус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тешкоћ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гутању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ffffff"/>
                </a:solidFill>
                <a:latin typeface="Arial"/>
              </a:rPr>
              <a:t>ИНФЕКЦИЈЕ</a:t>
            </a:r>
            <a:r>
              <a:rPr b="1" lang="sr-Latn-C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000" spc="-1" strike="noStrike">
                <a:solidFill>
                  <a:srgbClr val="ffffff"/>
                </a:solidFill>
                <a:latin typeface="Arial"/>
              </a:rPr>
              <a:t>ПТЕРИГОМАНДИБУЛАРНОГ</a:t>
            </a:r>
            <a:r>
              <a:rPr b="1" lang="sr-Latn-C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000" spc="-1" strike="noStrike">
                <a:solidFill>
                  <a:srgbClr val="ffffff"/>
                </a:solidFill>
                <a:latin typeface="Arial"/>
              </a:rPr>
              <a:t>ПРОСТО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8000" y="1139400"/>
            <a:ext cx="8748720" cy="550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3160" indent="-173160" algn="just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Екстраоралн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имптом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езнатн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зражен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л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х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ем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шт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25198"/>
                </a:solidFill>
                <a:latin typeface="Arial"/>
              </a:rPr>
              <a:t>ramus mandibulae</a:t>
            </a:r>
            <a:r>
              <a:rPr b="0" i="1" lang="sr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пречав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ширењ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фекци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ек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кив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браз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 algn="just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колико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огућ</a:t>
            </a:r>
            <a:r>
              <a:rPr b="0" lang="sr-RS" sz="1800" spc="-1" strike="noStrike">
                <a:solidFill>
                  <a:srgbClr val="025198"/>
                </a:solidFill>
                <a:latin typeface="Arial"/>
              </a:rPr>
              <a:t>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вид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ток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ој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д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д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едњег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епчаног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лук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шир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ем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едијалн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 algn="just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лузокож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црве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вул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ретк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едематоз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 algn="just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олаз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ужењ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25198"/>
                </a:solidFill>
                <a:latin typeface="Arial"/>
              </a:rPr>
              <a:t>isthmus fauciu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 algn="just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фекциј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ож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ширит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ем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арафарингеално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остор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ак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б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стовремено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ахваће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шт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линичк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след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лич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имптоматологи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и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лак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разликоват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 algn="just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Ширењем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апаљењ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ек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адњ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виц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25198"/>
                </a:solidFill>
                <a:latin typeface="Arial"/>
              </a:rPr>
              <a:t>ramus mandibulae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бив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ахваће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аротид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лож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уж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25198"/>
                </a:solidFill>
                <a:latin typeface="Arial"/>
              </a:rPr>
              <a:t>musculus temporalis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фекциј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шир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фратемпоралн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емпоралн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остор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 algn="just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мајућ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вид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огућност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ширењ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фекци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з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вог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остор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еопходн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 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врем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чинит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цизиј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 algn="just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траорал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цизиј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чин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роз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лузокож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едњој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виц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25198"/>
                </a:solidFill>
                <a:latin typeface="Arial"/>
              </a:rPr>
              <a:t>ramus</a:t>
            </a:r>
            <a:r>
              <a:rPr b="0" i="1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25198"/>
                </a:solidFill>
                <a:latin typeface="Arial"/>
              </a:rPr>
              <a:t>mandibulae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дмах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знад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25198"/>
                </a:solidFill>
                <a:latin typeface="Arial"/>
              </a:rPr>
              <a:t>trigonum retromolare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лаз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еано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змеђ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25198"/>
                </a:solidFill>
                <a:latin typeface="Arial"/>
              </a:rPr>
              <a:t>ramus mandibulae</a:t>
            </a:r>
            <a:r>
              <a:rPr b="0" i="1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sr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25198"/>
                </a:solidFill>
                <a:latin typeface="Arial"/>
              </a:rPr>
              <a:t>m. pterygoideus medialis</a:t>
            </a:r>
            <a:r>
              <a:rPr b="0" i="1" lang="sr-CS" sz="18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 algn="just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од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ак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зраженог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ризмус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чин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цизиј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екстраорал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ИНФЕКЦИЈЕ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ПАРАФАРИНГЕАЛНОГ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ПРОСТ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80643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имарн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фекциј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вог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остор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ентоге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етиологи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ајодговорниј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оњ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мњак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ног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чешћа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екундар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фекциј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вог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остор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след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ширењ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фекци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з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уседних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лож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од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золованог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апаљењ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вог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остор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ајупадљивиј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нак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ешкоће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гутањ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ризмус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Екстраоралн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имптом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чест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едостај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спод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виличног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гл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ож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иметит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езнатан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ток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ек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кив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едијал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тра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андибул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ак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бол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алпациј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тварањ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ст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исталн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д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адњег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олар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вид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ток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ој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ахват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едњ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епчан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лук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лузокож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ак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црве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јачав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ризмус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болов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гутањ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ак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тежан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елес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емператур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авил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38-40°C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улс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брзан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метњ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исањ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ремећај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лух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казуј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исуств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в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фекци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Висок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емператур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ак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болов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врем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гутањ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метњ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исањ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наци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ој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ахтевај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хитн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хируршк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тервенцију</a:t>
            </a:r>
            <a:r>
              <a:rPr b="0" lang="sr-Latn-RS" sz="18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ИНФЕКЦИЈЕ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ПАРОТИДНОМАСЕТЕРИЧНОГ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ПРОСТ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79280" y="1142640"/>
            <a:ext cx="65534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3160" indent="-17316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римарно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одонтоген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инфекциј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ретромандибуларн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лож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врло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ретк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ојав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она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настај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најчешћ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од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доњег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умњак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Секундарн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инфекциј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настај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ширењем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из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масетерично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мандибуларног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ростор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исто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тако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инфекциј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спољњем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ушном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каналу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као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гнојни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аротитис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,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могу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родрети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25198"/>
                </a:solidFill>
                <a:latin typeface="Arial"/>
              </a:rPr>
              <a:t>fossa retromandibular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Кож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изнад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тог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редел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затегнут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сјајн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јако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црвен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Отварањ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уст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незнатно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ограничено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Флуктуациј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констатуј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тек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кад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додј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до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формирањ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субкутаног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абсцес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Кад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инфекциј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овог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ростор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ниј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оследиц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гнојног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аротитис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жлезд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отиснута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с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својом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капсулом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без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оремећај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њен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функциј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ојав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тризмус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тешкоћ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гутањ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говореу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рилог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ширењ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инфекциј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рем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арафарингеалном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ростору</a:t>
            </a:r>
            <a:r>
              <a:rPr b="0" lang="sr-Latn-RS" sz="16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Абсцеси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ретромандибуларног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ростор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отварају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лучним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резом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испод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виличног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угл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5" descr="Pre-auricular_abscess"/>
          <p:cNvPicPr/>
          <p:nvPr/>
        </p:nvPicPr>
        <p:blipFill>
          <a:blip r:embed="rId2"/>
          <a:stretch/>
        </p:blipFill>
        <p:spPr>
          <a:xfrm>
            <a:off x="5940360" y="2781360"/>
            <a:ext cx="32036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ИНФЕКЦИЈЕ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ТЕМПОРАЛНЕ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ИНФРАТЕМПОРАЛНЕ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ПТЕРИГОПАЛАТИНСКЕ ЈА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42920" y="1285560"/>
            <a:ext cx="8750160" cy="50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27160" algn="just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Запаљењ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слепоочног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редел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као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оследиц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дентоген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инфекциј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,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 настај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услед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ширењ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из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суседних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ростор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27160" algn="just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Одонтоген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инфекциј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инфратемпоралног</a:t>
            </a:r>
            <a:r>
              <a:rPr b="0" lang="sr-RS" sz="1600" spc="-1" strike="noStrike">
                <a:solidFill>
                  <a:srgbClr val="025198"/>
                </a:solidFill>
                <a:latin typeface="Arial"/>
              </a:rPr>
              <a:t> и</a:t>
            </a:r>
            <a:r>
              <a:rPr b="0" i="1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тер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y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гопалатинског простор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настај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услед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ширењ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инфекциј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из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ретромаксиларног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арафарингеалног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ростор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27160" algn="just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То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најчешћ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оследиц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тромбофлебитис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теригоидног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лексус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27160" algn="just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римарно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запаљење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25198"/>
                </a:solidFill>
                <a:latin typeface="Arial"/>
              </a:rPr>
              <a:t>fossae infratemporalis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теригопалатинск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јам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мож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настати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као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оследиц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суббазалних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анестезиј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редео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25198"/>
                </a:solidFill>
                <a:latin typeface="Arial"/>
              </a:rPr>
              <a:t>foramena rotunduma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25198"/>
                </a:solidFill>
                <a:latin typeface="Arial"/>
              </a:rPr>
              <a:t>foramena oval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27160" algn="just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ојав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оток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слепоочном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ределу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указуј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н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даљ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ширењ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запаљивог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роцес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друг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локализациј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27160" algn="just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Мекан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нејасно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ограничен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незнатно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болан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оток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н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додир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налази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изнад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зигоматичног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лук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27160" algn="just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Инфекциј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25198"/>
                </a:solidFill>
                <a:latin typeface="Arial"/>
              </a:rPr>
              <a:t>fossae infratemporalis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25198"/>
                </a:solidFill>
                <a:latin typeface="Arial"/>
              </a:rPr>
              <a:t>fossae pterygopalatinae</a:t>
            </a:r>
            <a:r>
              <a:rPr b="0" i="1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због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блиских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топографских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однос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врло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су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често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истовремено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захваћен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запаљењем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27160" algn="just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Код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инфекција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25198"/>
                </a:solidFill>
                <a:latin typeface="Arial"/>
              </a:rPr>
              <a:t>fossae</a:t>
            </a:r>
            <a:r>
              <a:rPr b="0" i="1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25198"/>
                </a:solidFill>
                <a:latin typeface="Arial"/>
              </a:rPr>
              <a:t>infratemporalis</a:t>
            </a:r>
            <a:r>
              <a:rPr b="0" i="1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25198"/>
                </a:solidFill>
                <a:latin typeface="Arial"/>
              </a:rPr>
              <a:t>pter</a:t>
            </a:r>
            <a:r>
              <a:rPr b="0" i="1" lang="sr-Latn-CS" sz="1600" spc="-1" strike="noStrike">
                <a:solidFill>
                  <a:srgbClr val="025198"/>
                </a:solidFill>
                <a:latin typeface="Arial"/>
              </a:rPr>
              <a:t>y</a:t>
            </a:r>
            <a:r>
              <a:rPr b="0" i="1" lang="en-US" sz="1600" spc="-1" strike="noStrike">
                <a:solidFill>
                  <a:srgbClr val="025198"/>
                </a:solidFill>
                <a:latin typeface="Arial"/>
              </a:rPr>
              <a:t>gopalatinae</a:t>
            </a:r>
            <a:r>
              <a:rPr b="0" i="1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може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доћи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до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врло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озбиљних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компликација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као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што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су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менингитис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абсцес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мозга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ри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чему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запаљење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реко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25198"/>
                </a:solidFill>
                <a:latin typeface="Arial"/>
              </a:rPr>
              <a:t>foramen</a:t>
            </a:r>
            <a:r>
              <a:rPr b="0" i="1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25198"/>
                </a:solidFill>
                <a:latin typeface="Arial"/>
              </a:rPr>
              <a:t>ovale</a:t>
            </a:r>
            <a:r>
              <a:rPr b="0" i="1" lang="sr-Latn-CS" sz="16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i="1" lang="en-US" sz="1600" spc="-1" strike="noStrike">
                <a:solidFill>
                  <a:srgbClr val="025198"/>
                </a:solidFill>
                <a:latin typeface="Arial"/>
              </a:rPr>
              <a:t>foramen</a:t>
            </a:r>
            <a:r>
              <a:rPr b="0" i="1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25198"/>
                </a:solidFill>
                <a:latin typeface="Arial"/>
              </a:rPr>
              <a:t>spinosum</a:t>
            </a:r>
            <a:r>
              <a:rPr b="0" i="1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25198"/>
                </a:solidFill>
                <a:latin typeface="Arial"/>
              </a:rPr>
              <a:t>canalis</a:t>
            </a:r>
            <a:r>
              <a:rPr b="0" i="1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25198"/>
                </a:solidFill>
                <a:latin typeface="Arial"/>
              </a:rPr>
              <a:t>rotundus</a:t>
            </a:r>
            <a:r>
              <a:rPr b="0" i="1" lang="sr-Latn-CS" sz="1600" spc="-1" strike="noStrike">
                <a:solidFill>
                  <a:srgbClr val="025198"/>
                </a:solidFill>
                <a:latin typeface="Arial"/>
              </a:rPr>
              <a:t>-</a:t>
            </a:r>
            <a:r>
              <a:rPr b="0" i="1" lang="sr-CS" sz="1600" spc="-1" strike="noStrike">
                <a:solidFill>
                  <a:srgbClr val="025198"/>
                </a:solidFill>
                <a:latin typeface="Arial"/>
              </a:rPr>
              <a:t>а</a:t>
            </a:r>
            <a:r>
              <a:rPr b="0" i="1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роширило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рема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ендокранијуму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27160" algn="just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Инцизиј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изводи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интр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-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или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екстаорал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Врста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број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вируленција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проузроковача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као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локална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општа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одбрана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организма</a:t>
            </a:r>
            <a:r>
              <a:rPr b="1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одре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ђ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ују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развој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инфекције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Организам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реагује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целуларном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одбраном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помоћу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беланчевина</a:t>
            </a:r>
            <a:r>
              <a:rPr b="1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крвне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плазме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хуморалном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одбраном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Као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резултат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телесне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целуларне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хуморалне одбране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долази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до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појаве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запаљења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Знаци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запаљења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су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условљени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делимично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анатомским</a:t>
            </a:r>
            <a:r>
              <a:rPr b="1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специфичностима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лица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вилица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4809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ИНФЕКЦИЈЕ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МЕКИХ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ТКИ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ИНФЕКЦИЈЕ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ОРБИ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09520" y="148428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нфекциј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оштаних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идов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рбит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јчешћ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риноген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словљен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ста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тежно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одирање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гнојн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нфекци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з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араназалних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шупљин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ст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ак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25198"/>
                </a:solidFill>
                <a:latin typeface="Arial"/>
              </a:rPr>
              <a:t>sinusitis maxillaris</a:t>
            </a:r>
            <a:r>
              <a:rPr b="0" i="1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ентогеног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рекл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овод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нфекци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оштаних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идов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рбит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стеомијелитис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горњ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вилице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акођ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ож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бит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зрок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нфекци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рбит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донтоген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нфекциј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ож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тицат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д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горњих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олар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чем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апаљењ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рбит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шир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к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апаљењ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ретромаксиларног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остор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фосе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теригопалатин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а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огућ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ут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ширењ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ентоген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нфекци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м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рбит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дстављај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убпериосталн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абсцес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ој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шир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змеђ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ериост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дњег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ид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аксил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рбиту</a:t>
            </a:r>
            <a:r>
              <a:rPr b="0" lang="sr-Latn-RS" sz="20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49360" y="17748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ИНФЕКЦИЈЕ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ОРБИ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5560" y="1091880"/>
            <a:ext cx="588492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3160" indent="-173160" algn="just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Абсцес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рбит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ој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локализован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едње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ел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ч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упље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казу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апаљив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еде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б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ч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апк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хемоз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оњунктив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отрузијо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булбус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 algn="just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кретљивост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булбус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граниче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виц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рбит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ак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бол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одир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 algn="just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колик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абсцес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виш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ложен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убин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рбит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толик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ток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апак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ањ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падљив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 algn="just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олаз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ремећај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кретљивост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булбус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јаво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вослик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слабљење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вид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чак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губитко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вид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 algn="just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исут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ак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главобољ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сећаје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итиск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едел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болелог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к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 algn="just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пшт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тањ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ак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ремећено са високом телесном 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емператур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 algn="just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вако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лучај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реб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клонит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зрок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чинит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цизиј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абсцес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ревизију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араназалних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шупљи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еопходн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дмах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рдинират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висок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оз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антибиот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6" descr="1260454e%20orbit%20infection%20abscess%20oedema%20erythema%20limitation%20eye%20movement%20proptosis%201"/>
          <p:cNvPicPr/>
          <p:nvPr/>
        </p:nvPicPr>
        <p:blipFill>
          <a:blip r:embed="rId2"/>
          <a:stretch/>
        </p:blipFill>
        <p:spPr>
          <a:xfrm>
            <a:off x="6175440" y="1628640"/>
            <a:ext cx="2860560" cy="19465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9" descr="2462_303"/>
          <p:cNvPicPr/>
          <p:nvPr/>
        </p:nvPicPr>
        <p:blipFill>
          <a:blip r:embed="rId3"/>
          <a:stretch/>
        </p:blipFill>
        <p:spPr>
          <a:xfrm>
            <a:off x="6162840" y="3681360"/>
            <a:ext cx="289080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ФЛЕГМОНЕ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ЛИ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61880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-51732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Флегмон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акутн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ифузн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апаљењ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растреситог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везивног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кив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без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енденци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а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граничењ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тварањ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абсце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Флегмон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јопасни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нфекци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еких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кив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н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ешавај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релативн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ретк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али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век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грожавај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живо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аксилофацијалној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региј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флегмон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јчешћ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јављ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д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ст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25198"/>
                </a:solidFill>
                <a:latin typeface="Arial"/>
              </a:rPr>
              <a:t>A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гин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Лудовици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25198"/>
                </a:solidFill>
                <a:latin typeface="Arial"/>
              </a:rPr>
              <a:t>(Ludowici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дел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браз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рбит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дручј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великих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рвних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удов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врат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5" descr="The_course_of_phlegmon"/>
          <p:cNvPicPr/>
          <p:nvPr/>
        </p:nvPicPr>
        <p:blipFill>
          <a:blip r:embed="rId2"/>
          <a:stretch/>
        </p:blipFill>
        <p:spPr>
          <a:xfrm>
            <a:off x="5829480" y="3933720"/>
            <a:ext cx="3079440" cy="23637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9" descr="ANd9GcSRWTq-pWOdYHMarIswVVhlo5fEAiHfKgWwhRujHFzACFNNx0QTwrVndg"/>
          <p:cNvPicPr/>
          <p:nvPr/>
        </p:nvPicPr>
        <p:blipFill>
          <a:blip r:embed="rId3"/>
          <a:stretch/>
        </p:blipFill>
        <p:spPr>
          <a:xfrm>
            <a:off x="6588000" y="1338120"/>
            <a:ext cx="20322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ФЛЕГМОНА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ПОДА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У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9840" y="1052280"/>
            <a:ext cx="90043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71360" indent="-171360">
              <a:spcBef>
                <a:spcPts val="7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Флегмо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д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ст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ајчешћ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ентогеног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рекл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7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вред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зик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д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ст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елом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вилиц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-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акођ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ог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бит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лаз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врат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астанак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флегмо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7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Флегмо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д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ст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развијеној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линичкој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форм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ахват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б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ублингвал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б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убмандибулар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убментални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еде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7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Врл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брз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олаз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бостра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јав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ток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дбрадно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двилично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едел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7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ток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врд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а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аск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ак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болан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одир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7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след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ток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д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ст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зик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тиснут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ема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азад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гор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ак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тежан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гутањ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исањ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говор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7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аж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болесник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говор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ао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м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недл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стим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7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Читав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д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ст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здигнут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кор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ечив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виц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оњих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екутић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ублингвал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лик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тече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баз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црве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врх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екриве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беличасти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фибринским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аслагам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дсећај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етлов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ресту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)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7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јављу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ак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фетор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з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ст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хиперсаливациј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аки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болов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в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аћен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зо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рхтавицо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хладни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нојење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високо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емпературо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губљење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апетит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алаксалошћ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брзани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лаб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уњени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улс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ФЛЕГМОНА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ПОДА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УСТА</a:t>
            </a:r>
            <a:br>
              <a:rPr sz="3600"/>
            </a:b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дијагноза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комплика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2920" y="1071360"/>
            <a:ext cx="878688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3480" indent="-213480" algn="just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ијагноз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стављ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вег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снов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линичк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лик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3480" indent="-213480" algn="just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Брз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еволуциј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висока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емператур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брзан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улс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пшт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лош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тањ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цијаноз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са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лав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хлад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агодиц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стим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елимичн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омбинован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имптомим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шок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пшт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нац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флегмо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3480" indent="-213480" algn="just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Локалн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стој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врд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филтрат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врд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а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аск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ејасних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границ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ем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колин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3480" indent="-213480" algn="just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ред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ог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сто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в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нац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локалног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апаљењ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ак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зраженој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форм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3480" indent="-213480" algn="just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грожавањ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живот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аста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след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ширењ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фекци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колин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едијастину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3480" indent="-213480" algn="just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стој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пасност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д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јав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ромбофлебитис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sr-Latn-RS" sz="1800" spc="-1" strike="noStrike">
                <a:solidFill>
                  <a:srgbClr val="025198"/>
                </a:solidFill>
                <a:latin typeface="Arial"/>
              </a:rPr>
              <a:t>v. jugularis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огућност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гушењ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јав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епс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6" descr="preview_html_75f62237"/>
          <p:cNvPicPr/>
          <p:nvPr/>
        </p:nvPicPr>
        <p:blipFill>
          <a:blip r:embed="rId2"/>
          <a:stretch/>
        </p:blipFill>
        <p:spPr>
          <a:xfrm>
            <a:off x="1428840" y="4548240"/>
            <a:ext cx="2522520" cy="20905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8" descr="image008"/>
          <p:cNvPicPr/>
          <p:nvPr/>
        </p:nvPicPr>
        <p:blipFill>
          <a:blip r:embed="rId3"/>
          <a:stretch/>
        </p:blipFill>
        <p:spPr>
          <a:xfrm>
            <a:off x="4214880" y="4510080"/>
            <a:ext cx="365904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4560" y="-33840"/>
            <a:ext cx="910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ФЛЕГМОНА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ПОДА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УСТА</a:t>
            </a:r>
            <a:br>
              <a:rPr sz="3200"/>
            </a:b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лече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75128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Лечењ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ор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брз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едузет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оузроковач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реб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шт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огућ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е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оказат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именит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циљан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ерапиј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обијањ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резултат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антибиограм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реб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именити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хемотерапеутик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широки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пектро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ејств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ред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ог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реб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едузет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в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ер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а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дизањ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дбрамбених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наг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рганизм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вид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фузиј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витаминск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ерапије</a:t>
            </a:r>
            <a:r>
              <a:rPr b="0" lang="sr-Latn-R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ардиотоника</a:t>
            </a:r>
            <a:r>
              <a:rPr b="0" lang="sr-Latn-RS" sz="18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ем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треб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цизиј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6" descr="Ludwig_s_Angina_ENT_009"/>
          <p:cNvPicPr/>
          <p:nvPr/>
        </p:nvPicPr>
        <p:blipFill>
          <a:blip r:embed="rId2"/>
          <a:stretch/>
        </p:blipFill>
        <p:spPr>
          <a:xfrm>
            <a:off x="5543640" y="3803760"/>
            <a:ext cx="2720880" cy="26384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ANd9GcQ0BkPjKyzkrHoQFBXlS8B82TCgqNjZgvaxmZPQkDNLUPleCbVe"/>
          <p:cNvPicPr/>
          <p:nvPr/>
        </p:nvPicPr>
        <p:blipFill>
          <a:blip r:embed="rId3"/>
          <a:stretch/>
        </p:blipFill>
        <p:spPr>
          <a:xfrm>
            <a:off x="5554800" y="1341360"/>
            <a:ext cx="2720880" cy="23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"/>
          <p:cNvSpPr/>
          <p:nvPr/>
        </p:nvSpPr>
        <p:spPr>
          <a:xfrm>
            <a:off x="468360" y="18900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КОМПЛИКАЦИЈЕ</a:t>
            </a:r>
            <a:r>
              <a:rPr b="1" lang="hr-H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ОДОНТОГЕНИХ</a:t>
            </a:r>
            <a:r>
              <a:rPr b="1" lang="hr-H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ИНФЕК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468360" y="90792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611280" y="1371600"/>
            <a:ext cx="6481800" cy="37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2519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Хематогено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шире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2519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Директно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ширење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i="1" lang="hr-HR" sz="1800" spc="-1" strike="noStrike">
                <a:solidFill>
                  <a:srgbClr val="025198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25198"/>
                </a:solidFill>
                <a:latin typeface="Arial"/>
              </a:rPr>
              <a:t>per</a:t>
            </a:r>
            <a:r>
              <a:rPr b="1" i="1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25198"/>
                </a:solidFill>
                <a:latin typeface="Arial"/>
              </a:rPr>
              <a:t>continuitatem</a:t>
            </a:r>
            <a:r>
              <a:rPr b="1" i="1" lang="hr-HR" sz="1800" spc="-1" strike="noStrike">
                <a:solidFill>
                  <a:srgbClr val="025198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00000"/>
                </a:solidFill>
                <a:latin typeface="Arial"/>
              </a:rPr>
              <a:t>Хематогено</a:t>
            </a:r>
            <a:r>
              <a:rPr b="1" lang="hr-HR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c00000"/>
                </a:solidFill>
                <a:latin typeface="Arial"/>
              </a:rPr>
              <a:t>шире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2519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Афекција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рчаних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алистака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2519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Афекција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вештачких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глобова</a:t>
            </a:r>
            <a:r>
              <a:rPr b="0" lang="sr-Latn-RS" sz="1800" spc="-1" strike="noStrike">
                <a:solidFill>
                  <a:srgbClr val="025198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2519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даљена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ептичка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жаришта</a:t>
            </a:r>
            <a:r>
              <a:rPr b="0" lang="sr-Latn-RS" sz="1800" spc="-1" strike="noStrike">
                <a:solidFill>
                  <a:srgbClr val="025198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2519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донтогена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епса</a:t>
            </a:r>
            <a:r>
              <a:rPr b="0" lang="sr-Latn-RS" sz="18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5" descr="Ludwig%2527s+Angina+4"/>
          <p:cNvPicPr/>
          <p:nvPr/>
        </p:nvPicPr>
        <p:blipFill>
          <a:blip r:embed="rId2"/>
          <a:stretch/>
        </p:blipFill>
        <p:spPr>
          <a:xfrm>
            <a:off x="5138640" y="3279600"/>
            <a:ext cx="373068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"/>
          <p:cNvSpPr/>
          <p:nvPr/>
        </p:nvSpPr>
        <p:spPr>
          <a:xfrm>
            <a:off x="468360" y="18900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КОМПЛИКАЦИЈЕ</a:t>
            </a:r>
            <a:r>
              <a:rPr b="1" lang="hr-H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ОДОНТОГЕНИХ</a:t>
            </a:r>
            <a:r>
              <a:rPr b="1" lang="hr-H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ИНФЕК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468360" y="90792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4"/>
          <p:cNvSpPr/>
          <p:nvPr/>
        </p:nvSpPr>
        <p:spPr>
          <a:xfrm>
            <a:off x="324000" y="1136520"/>
            <a:ext cx="8391240" cy="38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00000"/>
                </a:solidFill>
                <a:latin typeface="Arial"/>
              </a:rPr>
              <a:t>Директно</a:t>
            </a:r>
            <a:r>
              <a:rPr b="1" lang="hr-HR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c00000"/>
                </a:solidFill>
                <a:latin typeface="Arial"/>
              </a:rPr>
              <a:t>ширење</a:t>
            </a:r>
            <a:r>
              <a:rPr b="1" lang="hr-HR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hr-HR" sz="2000" spc="-1" strike="noStrike">
                <a:solidFill>
                  <a:srgbClr val="c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c00000"/>
                </a:solidFill>
                <a:latin typeface="Arial"/>
              </a:rPr>
              <a:t>per</a:t>
            </a:r>
            <a:r>
              <a:rPr b="1" i="1" lang="hr-HR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c00000"/>
                </a:solidFill>
                <a:latin typeface="Arial"/>
              </a:rPr>
              <a:t>continuitatem</a:t>
            </a:r>
            <a:r>
              <a:rPr b="1" i="1" lang="hr-HR" sz="2000" spc="-1" strike="noStrike">
                <a:solidFill>
                  <a:srgbClr val="c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25198"/>
                </a:solidFill>
                <a:latin typeface="Arial"/>
              </a:rPr>
              <a:t>Продор</a:t>
            </a:r>
            <a:r>
              <a:rPr b="1" lang="hr-HR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1" lang="hr-HR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25198"/>
                </a:solidFill>
                <a:latin typeface="Arial"/>
              </a:rPr>
              <a:t>медијастинум</a:t>
            </a:r>
            <a:r>
              <a:rPr b="1" lang="hr-HR" sz="2000" spc="-1" strike="noStrike">
                <a:solidFill>
                  <a:srgbClr val="025198"/>
                </a:solidFill>
                <a:latin typeface="Arial"/>
              </a:rPr>
              <a:t> – </a:t>
            </a:r>
            <a:r>
              <a:rPr b="1" lang="sr-CS" sz="2000" spc="-1" strike="noStrike">
                <a:solidFill>
                  <a:srgbClr val="025198"/>
                </a:solidFill>
                <a:latin typeface="Arial"/>
              </a:rPr>
              <a:t>некротизирајући</a:t>
            </a:r>
            <a:r>
              <a:rPr b="1" lang="hr-HR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25198"/>
                </a:solidFill>
                <a:latin typeface="Arial"/>
              </a:rPr>
              <a:t>медијастинитис</a:t>
            </a:r>
            <a:r>
              <a:rPr b="1" lang="sr-Latn-RS" sz="2000" spc="-1" strike="noStrike">
                <a:solidFill>
                  <a:srgbClr val="025198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25198"/>
                </a:solidFill>
                <a:latin typeface="Arial"/>
              </a:rPr>
              <a:t>Интракранијална</a:t>
            </a:r>
            <a:r>
              <a:rPr b="1" lang="hr-HR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25198"/>
                </a:solidFill>
                <a:latin typeface="Arial"/>
              </a:rPr>
              <a:t>инфекција</a:t>
            </a:r>
            <a:r>
              <a:rPr b="1" lang="hr-HR" sz="2000" spc="-1" strike="noStrike">
                <a:solidFill>
                  <a:srgbClr val="025198"/>
                </a:solidFill>
                <a:latin typeface="Arial"/>
              </a:rPr>
              <a:t> (</a:t>
            </a:r>
            <a:r>
              <a:rPr b="1" lang="sr-CS" sz="2000" spc="-1" strike="noStrike">
                <a:solidFill>
                  <a:srgbClr val="025198"/>
                </a:solidFill>
                <a:latin typeface="Arial"/>
              </a:rPr>
              <a:t>тромбоза</a:t>
            </a:r>
            <a:r>
              <a:rPr b="1" lang="hr-HR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25198"/>
                </a:solidFill>
                <a:latin typeface="Arial"/>
              </a:rPr>
              <a:t>кавернозног</a:t>
            </a:r>
            <a:r>
              <a:rPr b="1" lang="hr-HR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25198"/>
                </a:solidFill>
                <a:latin typeface="Arial"/>
              </a:rPr>
              <a:t>синуса</a:t>
            </a:r>
            <a:r>
              <a:rPr b="1" lang="hr-HR" sz="2000" spc="-1" strike="noStrike">
                <a:solidFill>
                  <a:srgbClr val="025198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25198"/>
                </a:solidFill>
                <a:latin typeface="Arial"/>
              </a:rPr>
              <a:t>Супуративни</a:t>
            </a:r>
            <a:r>
              <a:rPr b="1" lang="hr-HR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25198"/>
                </a:solidFill>
                <a:latin typeface="Arial"/>
              </a:rPr>
              <a:t>тромбофлебитис</a:t>
            </a:r>
            <a:r>
              <a:rPr b="1" lang="hr-HR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i="1" lang="sr-Latn-RS" sz="2000" spc="-1" strike="noStrike">
                <a:solidFill>
                  <a:srgbClr val="025198"/>
                </a:solidFill>
                <a:latin typeface="Arial"/>
              </a:rPr>
              <a:t>v. jugularis internae</a:t>
            </a:r>
            <a:r>
              <a:rPr b="1" lang="hr-HR" sz="2000" spc="-1" strike="noStrike">
                <a:solidFill>
                  <a:srgbClr val="025198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25198"/>
                </a:solidFill>
                <a:latin typeface="Arial"/>
              </a:rPr>
              <a:t>Ерозија</a:t>
            </a:r>
            <a:r>
              <a:rPr b="1" lang="hr-HR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25198"/>
                </a:solidFill>
                <a:latin typeface="Arial"/>
              </a:rPr>
              <a:t>каротиде</a:t>
            </a:r>
            <a:r>
              <a:rPr b="1" lang="sr-Latn-RS" sz="2000" spc="-1" strike="noStrike">
                <a:solidFill>
                  <a:srgbClr val="025198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25198"/>
                </a:solidFill>
                <a:latin typeface="Arial"/>
              </a:rPr>
              <a:t>Максиларни</a:t>
            </a:r>
            <a:r>
              <a:rPr b="1" lang="hr-HR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25198"/>
                </a:solidFill>
                <a:latin typeface="Arial"/>
              </a:rPr>
              <a:t>синуситис</a:t>
            </a:r>
            <a:r>
              <a:rPr b="1" lang="sr-Latn-RS" sz="2000" spc="-1" strike="noStrike">
                <a:solidFill>
                  <a:srgbClr val="025198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25198"/>
                </a:solidFill>
                <a:latin typeface="Arial"/>
              </a:rPr>
              <a:t>Остеомијелитис</a:t>
            </a:r>
            <a:r>
              <a:rPr b="1" lang="sr-Latn-RS" sz="20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6" descr="mediastinitis"/>
          <p:cNvPicPr/>
          <p:nvPr/>
        </p:nvPicPr>
        <p:blipFill>
          <a:blip r:embed="rId2"/>
          <a:stretch/>
        </p:blipFill>
        <p:spPr>
          <a:xfrm>
            <a:off x="4143240" y="3643200"/>
            <a:ext cx="405000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2"/>
          <p:cNvSpPr/>
          <p:nvPr/>
        </p:nvSpPr>
        <p:spPr>
          <a:xfrm>
            <a:off x="487440" y="26028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КОМПЛИКАЦИЈЕ</a:t>
            </a:r>
            <a:r>
              <a:rPr b="1" lang="hr-H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ОДОНТОГЕНИХ</a:t>
            </a:r>
            <a:r>
              <a:rPr b="1" lang="hr-H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ИНФЕК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468360" y="90792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182520" y="1136520"/>
            <a:ext cx="89614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25198"/>
                </a:solidFill>
                <a:latin typeface="Arial"/>
              </a:rPr>
              <a:t>Супуративни</a:t>
            </a:r>
            <a:r>
              <a:rPr b="1" lang="hr-HR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25198"/>
                </a:solidFill>
                <a:latin typeface="Arial"/>
              </a:rPr>
              <a:t>тромбофлебитис </a:t>
            </a:r>
            <a:r>
              <a:rPr b="1" i="1" lang="sr-Latn-RS" sz="2000" spc="-1" strike="noStrike">
                <a:solidFill>
                  <a:srgbClr val="025198"/>
                </a:solidFill>
                <a:latin typeface="Arial"/>
              </a:rPr>
              <a:t>v. jugularis internae</a:t>
            </a:r>
            <a:r>
              <a:rPr b="1" lang="hr-HR" sz="2000" spc="-1" strike="noStrike">
                <a:solidFill>
                  <a:srgbClr val="025198"/>
                </a:solidFill>
                <a:latin typeface="Arial"/>
              </a:rPr>
              <a:t> - </a:t>
            </a:r>
            <a:r>
              <a:rPr b="1" i="1" lang="en-US" sz="2000" spc="-1" strike="noStrike">
                <a:solidFill>
                  <a:srgbClr val="025198"/>
                </a:solidFill>
                <a:latin typeface="Arial"/>
              </a:rPr>
              <a:t>S</a:t>
            </a:r>
            <a:r>
              <a:rPr b="1" i="1" lang="hr-HR" sz="2000" spc="-1" strike="noStrike">
                <a:solidFill>
                  <a:srgbClr val="025198"/>
                </a:solidFill>
                <a:latin typeface="Arial"/>
              </a:rPr>
              <a:t>y </a:t>
            </a:r>
            <a:r>
              <a:rPr b="1" i="1" lang="en-US" sz="2000" spc="-1" strike="noStrike">
                <a:solidFill>
                  <a:srgbClr val="025198"/>
                </a:solidFill>
                <a:latin typeface="Arial"/>
              </a:rPr>
              <a:t>Lemierre</a:t>
            </a:r>
            <a:r>
              <a:rPr b="1" i="1" lang="hr-HR" sz="2000" spc="-1" strike="noStrike">
                <a:solidFill>
                  <a:srgbClr val="02519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Значај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: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ерзистирајућа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бактеријемија</a:t>
            </a:r>
            <a:r>
              <a:rPr b="0" lang="sr-Latn-RS" sz="18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Клиничка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презентација</a:t>
            </a:r>
            <a:r>
              <a:rPr b="1" lang="sr-RS" sz="1800" spc="-1" strike="noStrike">
                <a:solidFill>
                  <a:srgbClr val="025198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Нагли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почетак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фебрилитет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општа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слабост</a:t>
            </a:r>
            <a:r>
              <a:rPr b="1" lang="sr-RS" sz="1800" spc="-1" strike="noStrike">
                <a:solidFill>
                  <a:srgbClr val="025198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25198"/>
                </a:solidFill>
                <a:latin typeface="Arial"/>
              </a:rPr>
              <a:t>л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окализован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бол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оток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дисфагија</a:t>
            </a:r>
            <a:r>
              <a:rPr b="1" lang="sr-RS" sz="18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Компликациј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Метастатски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апсцеси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 – 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плућа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мозак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бубрези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25198"/>
                </a:solidFill>
                <a:latin typeface="Arial"/>
              </a:rPr>
              <a:t>з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глобови</a:t>
            </a:r>
            <a:r>
              <a:rPr b="1" lang="sr-Latn-RS" sz="18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25198"/>
                </a:solidFill>
                <a:latin typeface="Calibri"/>
              </a:rPr>
              <a:t>Дијагноза</a:t>
            </a:r>
            <a:r>
              <a:rPr b="1" lang="sr-Latn-RS" sz="2000" spc="-1" strike="noStrike">
                <a:solidFill>
                  <a:srgbClr val="025198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RS" sz="2000" spc="-1" strike="noStrike">
                <a:solidFill>
                  <a:srgbClr val="025198"/>
                </a:solidFill>
                <a:latin typeface="Arial"/>
              </a:rPr>
              <a:t>U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RS" sz="2000" spc="-1" strike="noStrike">
                <a:solidFill>
                  <a:srgbClr val="025198"/>
                </a:solidFill>
                <a:latin typeface="Arial"/>
              </a:rPr>
              <a:t>C</a:t>
            </a:r>
            <a:r>
              <a:rPr b="0" i="1" lang="sr-CS" sz="2000" spc="-1" strike="noStrike">
                <a:solidFill>
                  <a:srgbClr val="025198"/>
                </a:solidFill>
                <a:latin typeface="Calibri"/>
              </a:rPr>
              <a:t>Т</a:t>
            </a:r>
            <a:r>
              <a:rPr b="0" lang="hr-HR" sz="2000" spc="-1" strike="noStrike">
                <a:solidFill>
                  <a:srgbClr val="025198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Calibri"/>
              </a:rPr>
              <a:t>с</a:t>
            </a:r>
            <a:r>
              <a:rPr b="0" lang="hr-HR" sz="2000" spc="-1" strike="noStrike">
                <a:solidFill>
                  <a:srgbClr val="025198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Calibri"/>
              </a:rPr>
              <a:t>контраст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25198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>
                <a:solidFill>
                  <a:srgbClr val="025198"/>
                </a:solidFill>
                <a:latin typeface="Calibri"/>
              </a:rPr>
              <a:t>М</a:t>
            </a:r>
            <a:r>
              <a:rPr b="0" i="1" lang="sr-Latn-RS" sz="2000" spc="-1" strike="noStrike">
                <a:solidFill>
                  <a:srgbClr val="025198"/>
                </a:solidFill>
                <a:latin typeface="Arial"/>
              </a:rPr>
              <a:t>RI</a:t>
            </a:r>
            <a:r>
              <a:rPr b="0" lang="hr-HR" sz="2000" spc="-1" strike="noStrike">
                <a:solidFill>
                  <a:srgbClr val="025198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Calibri"/>
              </a:rPr>
              <a:t>ангиограф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Лечење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: 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антибиотици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 3-6 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недељ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Хитна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хоспитализац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5" descr="Case21.Neck_CT_Lemierre_Syndrome"/>
          <p:cNvPicPr/>
          <p:nvPr/>
        </p:nvPicPr>
        <p:blipFill>
          <a:blip r:embed="rId2"/>
          <a:stretch/>
        </p:blipFill>
        <p:spPr>
          <a:xfrm>
            <a:off x="5670720" y="1881360"/>
            <a:ext cx="3111480" cy="44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468360" y="18900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КОМПЛИКАЦИЈЕ</a:t>
            </a:r>
            <a:r>
              <a:rPr b="1" lang="hr-H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ОДОНТОГЕНИХ</a:t>
            </a:r>
            <a:r>
              <a:rPr b="1" lang="hr-H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ИНФЕК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468360" y="90792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24000" y="1419120"/>
            <a:ext cx="6119640" cy="44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00000"/>
                </a:solidFill>
                <a:latin typeface="Arial"/>
              </a:rPr>
              <a:t>Директно</a:t>
            </a:r>
            <a:r>
              <a:rPr b="1" lang="hr-HR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c00000"/>
                </a:solidFill>
                <a:latin typeface="Arial"/>
              </a:rPr>
              <a:t>ширење</a:t>
            </a:r>
            <a:r>
              <a:rPr b="1" lang="sr-Latn-R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hr-HR" sz="1800" spc="-1" strike="noStrike">
                <a:solidFill>
                  <a:srgbClr val="c00000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c00000"/>
                </a:solidFill>
                <a:latin typeface="Arial"/>
              </a:rPr>
              <a:t>per</a:t>
            </a:r>
            <a:r>
              <a:rPr b="1" i="1" lang="hr-HR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c00000"/>
                </a:solidFill>
                <a:latin typeface="Arial"/>
              </a:rPr>
              <a:t>continuitatem</a:t>
            </a:r>
            <a:r>
              <a:rPr b="1" i="1" lang="hr-HR" sz="1800" spc="-1" strike="noStrike">
                <a:solidFill>
                  <a:srgbClr val="c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Ерозија</a:t>
            </a:r>
            <a:r>
              <a:rPr b="1" lang="hr-HR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кароти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25198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25198"/>
                </a:solidFill>
                <a:latin typeface="Arial"/>
              </a:rPr>
              <a:t>-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ширење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фекције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з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латералног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фарингеалног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остора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25198"/>
                </a:solidFill>
                <a:latin typeface="Arial"/>
              </a:rPr>
              <a:t>Lud</a:t>
            </a:r>
            <a:r>
              <a:rPr b="0" i="1" lang="hr-HR" sz="1800" spc="-1" strike="noStrike">
                <a:solidFill>
                  <a:srgbClr val="025198"/>
                </a:solidFill>
                <a:latin typeface="Arial"/>
              </a:rPr>
              <a:t>w</a:t>
            </a:r>
            <a:r>
              <a:rPr b="0" i="1" lang="en-US" sz="1800" spc="-1" strike="noStrike">
                <a:solidFill>
                  <a:srgbClr val="025198"/>
                </a:solidFill>
                <a:latin typeface="Arial"/>
              </a:rPr>
              <a:t>ig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-ове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ангине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, 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апсцедирајућег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лимфаденитиса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а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врату</a:t>
            </a:r>
            <a:r>
              <a:rPr b="0" lang="sr-Latn-RS" sz="1800" spc="-1" strike="noStrike">
                <a:solidFill>
                  <a:srgbClr val="025198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25198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25198"/>
                </a:solidFill>
                <a:latin typeface="Arial"/>
              </a:rPr>
              <a:t>-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ешко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ептично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тање</a:t>
            </a:r>
            <a:r>
              <a:rPr b="0" lang="sr-Latn-RS" sz="1800" spc="-1" strike="noStrike">
                <a:solidFill>
                  <a:srgbClr val="025198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25198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25198"/>
                </a:solidFill>
                <a:latin typeface="Arial"/>
              </a:rPr>
              <a:t>-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огућност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руптуре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аротиде</a:t>
            </a:r>
            <a:r>
              <a:rPr b="0" lang="sr-Latn-RS" sz="18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Лечење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: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антимикробно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 +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ев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.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двезивање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25198"/>
                </a:solidFill>
                <a:latin typeface="Arial"/>
              </a:rPr>
              <a:t>a</a:t>
            </a:r>
            <a:r>
              <a:rPr b="0" i="1" lang="hr-HR" sz="1800" spc="-1" strike="noStrike">
                <a:solidFill>
                  <a:srgbClr val="025198"/>
                </a:solidFill>
                <a:latin typeface="Arial"/>
              </a:rPr>
              <a:t>. </a:t>
            </a:r>
            <a:r>
              <a:rPr b="0" i="1" lang="en-US" sz="1800" spc="-1" strike="noStrike">
                <a:solidFill>
                  <a:srgbClr val="025198"/>
                </a:solidFill>
                <a:latin typeface="Arial"/>
              </a:rPr>
              <a:t>carot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Леталитет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: 20-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6" descr="Cartoid1"/>
          <p:cNvPicPr/>
          <p:nvPr/>
        </p:nvPicPr>
        <p:blipFill>
          <a:blip r:embed="rId2"/>
          <a:stretch/>
        </p:blipFill>
        <p:spPr>
          <a:xfrm>
            <a:off x="6227640" y="2220840"/>
            <a:ext cx="286560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ВРСТЕ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ИНФЕКЦ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8351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25198"/>
                </a:solidFill>
                <a:latin typeface="Arial"/>
              </a:rPr>
              <a:t>Према</a:t>
            </a:r>
            <a:r>
              <a:rPr b="1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25198"/>
                </a:solidFill>
                <a:latin typeface="Arial"/>
              </a:rPr>
              <a:t>пореклу</a:t>
            </a:r>
            <a:r>
              <a:rPr b="1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25198"/>
                </a:solidFill>
                <a:latin typeface="Arial"/>
              </a:rPr>
              <a:t>изазивача</a:t>
            </a:r>
            <a:r>
              <a:rPr b="1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1" lang="sr-CS" sz="2000" spc="-1" strike="noStrike">
                <a:solidFill>
                  <a:srgbClr val="025198"/>
                </a:solidFill>
                <a:latin typeface="Arial"/>
              </a:rPr>
              <a:t>постоје</a:t>
            </a:r>
            <a:r>
              <a:rPr b="1" lang="en-US" sz="2000" spc="-1" strike="noStrike">
                <a:solidFill>
                  <a:srgbClr val="025198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25198"/>
                </a:solidFill>
                <a:latin typeface="Arial"/>
              </a:rPr>
              <a:t>Егзогена</a:t>
            </a:r>
            <a:r>
              <a:rPr b="1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25198"/>
                </a:solidFill>
                <a:latin typeface="Arial"/>
              </a:rPr>
              <a:t>инфекција</a:t>
            </a:r>
            <a:r>
              <a:rPr b="1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-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зазивач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нфекци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тич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з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пољн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редин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25198"/>
                </a:solidFill>
                <a:latin typeface="Arial"/>
              </a:rPr>
              <a:t>Ендогена</a:t>
            </a:r>
            <a:r>
              <a:rPr b="1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25198"/>
                </a:solidFill>
                <a:latin typeface="Arial"/>
              </a:rPr>
              <a:t>инфекција</a:t>
            </a:r>
            <a:r>
              <a:rPr b="1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-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зазивач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нфекци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већ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лаз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рганизм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25198"/>
                </a:solidFill>
                <a:latin typeface="Arial"/>
              </a:rPr>
              <a:t>Реинфекција</a:t>
            </a:r>
            <a:r>
              <a:rPr b="1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-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стоветн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зазивач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нов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овод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нфекци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25198"/>
                </a:solidFill>
                <a:latin typeface="Arial"/>
              </a:rPr>
              <a:t>Секундарна</a:t>
            </a:r>
            <a:r>
              <a:rPr b="1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25198"/>
                </a:solidFill>
                <a:latin typeface="Arial"/>
              </a:rPr>
              <a:t>инфекција</a:t>
            </a:r>
            <a:r>
              <a:rPr b="1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-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новљен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нфекциј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руги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оузроковаче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25198"/>
                </a:solidFill>
                <a:latin typeface="Arial"/>
              </a:rPr>
              <a:t>Комбинована</a:t>
            </a:r>
            <a:r>
              <a:rPr b="1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25198"/>
                </a:solidFill>
                <a:latin typeface="Arial"/>
              </a:rPr>
              <a:t>инфекција</a:t>
            </a:r>
            <a:r>
              <a:rPr b="1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-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ејств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в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оузроковач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овод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јав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нфекци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25198"/>
                </a:solidFill>
                <a:latin typeface="Arial"/>
              </a:rPr>
              <a:t>Латентна</a:t>
            </a:r>
            <a:r>
              <a:rPr b="1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25198"/>
                </a:solidFill>
                <a:latin typeface="Arial"/>
              </a:rPr>
              <a:t>инфекција</a:t>
            </a:r>
            <a:r>
              <a:rPr b="1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-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имптом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апаљењ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зостај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ал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вак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врем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ож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ође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акутн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егзацербације</a:t>
            </a:r>
            <a:r>
              <a:rPr b="0" lang="sr-Latn-RS" sz="20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2"/>
          <p:cNvSpPr/>
          <p:nvPr/>
        </p:nvSpPr>
        <p:spPr>
          <a:xfrm>
            <a:off x="468360" y="18900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КОМПЛИКАЦИЈЕ</a:t>
            </a:r>
            <a:r>
              <a:rPr b="1" lang="hr-H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ОДОНТОГЕНИХ</a:t>
            </a:r>
            <a:r>
              <a:rPr b="1" lang="hr-H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ИНФЕК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468360" y="90792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324000" y="981000"/>
            <a:ext cx="5327640" cy="55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00000"/>
                </a:solidFill>
                <a:latin typeface="Arial"/>
              </a:rPr>
              <a:t>Директно</a:t>
            </a:r>
            <a:r>
              <a:rPr b="1" lang="hr-HR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c00000"/>
                </a:solidFill>
                <a:latin typeface="Arial"/>
              </a:rPr>
              <a:t>ширење</a:t>
            </a:r>
            <a:r>
              <a:rPr b="1" lang="hr-HR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hr-HR" sz="1800" spc="-1" strike="noStrike">
                <a:solidFill>
                  <a:srgbClr val="c00000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c00000"/>
                </a:solidFill>
                <a:latin typeface="Arial"/>
              </a:rPr>
              <a:t>per</a:t>
            </a:r>
            <a:r>
              <a:rPr b="1" i="1" lang="hr-HR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c00000"/>
                </a:solidFill>
                <a:latin typeface="Arial"/>
              </a:rPr>
              <a:t>continuitatem</a:t>
            </a:r>
            <a:r>
              <a:rPr b="1" i="1" lang="hr-HR" sz="1800" spc="-1" strike="noStrike">
                <a:solidFill>
                  <a:srgbClr val="c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Остеомијелитис</a:t>
            </a:r>
            <a:r>
              <a:rPr b="1" lang="hr-HR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вил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2519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ајчешће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андибу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2519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зненађујуће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рет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Ризични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факто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2519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етходна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фрактура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рачење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ијабетес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тероидна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ерап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Клиничка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презентац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-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ак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б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-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ризм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Дијагно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-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цинтиграф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-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Етиолошка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ијагноза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од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хроничног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стеомијелитиса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 –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биопсија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Лечење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: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 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антимикробно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 4-6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едељ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6" descr="gr2"/>
          <p:cNvPicPr/>
          <p:nvPr/>
        </p:nvPicPr>
        <p:blipFill>
          <a:blip r:embed="rId2"/>
          <a:stretch/>
        </p:blipFill>
        <p:spPr>
          <a:xfrm>
            <a:off x="4859280" y="3429000"/>
            <a:ext cx="41767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2"/>
          <p:cNvSpPr/>
          <p:nvPr/>
        </p:nvSpPr>
        <p:spPr>
          <a:xfrm>
            <a:off x="468360" y="90792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7" descr="IndianJOphthalmol_2013_61_7_349_109533_f1"/>
          <p:cNvPicPr/>
          <p:nvPr/>
        </p:nvPicPr>
        <p:blipFill>
          <a:blip r:embed="rId2"/>
          <a:srcRect l="525" t="17671" r="0" b="20503"/>
          <a:stretch/>
        </p:blipFill>
        <p:spPr>
          <a:xfrm>
            <a:off x="5343480" y="2273400"/>
            <a:ext cx="3689280" cy="186372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3"/>
          <p:cNvSpPr/>
          <p:nvPr/>
        </p:nvSpPr>
        <p:spPr>
          <a:xfrm>
            <a:off x="395280" y="0"/>
            <a:ext cx="8610480" cy="59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Директно</a:t>
            </a:r>
            <a:r>
              <a:rPr b="1" lang="hr-H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ширење</a:t>
            </a:r>
            <a:r>
              <a:rPr b="1" lang="hr-H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Септичка</a:t>
            </a:r>
            <a:r>
              <a:rPr b="1" lang="hr-H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тромбоза</a:t>
            </a:r>
            <a:r>
              <a:rPr b="1" lang="hr-H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кавернозног</a:t>
            </a:r>
            <a:r>
              <a:rPr b="1" lang="hr-H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сину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Узроц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2519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25198"/>
                </a:solidFill>
                <a:latin typeface="Arial"/>
              </a:rPr>
              <a:t>пурулентни</a:t>
            </a:r>
            <a:r>
              <a:rPr b="1" lang="hr-HR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25198"/>
                </a:solidFill>
                <a:latin typeface="Arial"/>
              </a:rPr>
              <a:t>синуситис</a:t>
            </a:r>
            <a:r>
              <a:rPr b="1" lang="hr-HR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1" lang="sr-CS" sz="2000" spc="-1" strike="noStrike">
                <a:solidFill>
                  <a:srgbClr val="025198"/>
                </a:solidFill>
                <a:latin typeface="Arial"/>
              </a:rPr>
              <a:t>фацијална</a:t>
            </a:r>
            <a:r>
              <a:rPr b="1" lang="hr-HR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25198"/>
                </a:solidFill>
                <a:latin typeface="Arial"/>
              </a:rPr>
              <a:t>фурункуло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2519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025198"/>
                </a:solidFill>
                <a:uFillTx/>
                <a:latin typeface="Arial"/>
              </a:rPr>
              <a:t>Одонтогени</a:t>
            </a:r>
            <a:r>
              <a:rPr b="0" lang="hr-HR" sz="2000" spc="-1" strike="noStrike" u="sng">
                <a:solidFill>
                  <a:srgbClr val="025198"/>
                </a:solidFill>
                <a:uFillTx/>
                <a:latin typeface="Arial"/>
              </a:rPr>
              <a:t> </a:t>
            </a:r>
            <a:r>
              <a:rPr b="0" lang="sr-CS" sz="2000" spc="-1" strike="noStrike" u="sng">
                <a:solidFill>
                  <a:srgbClr val="025198"/>
                </a:solidFill>
                <a:uFillTx/>
                <a:latin typeface="Arial"/>
              </a:rPr>
              <a:t>узрок</a:t>
            </a:r>
            <a:r>
              <a:rPr b="0" lang="hr-HR" sz="2000" spc="-1" strike="noStrike">
                <a:solidFill>
                  <a:srgbClr val="025198"/>
                </a:solidFill>
                <a:latin typeface="Arial"/>
              </a:rPr>
              <a:t>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25198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аксиларни</a:t>
            </a:r>
            <a:r>
              <a:rPr b="0" lang="hr-HR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уб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Симпто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2519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гли</a:t>
            </a:r>
            <a:r>
              <a:rPr b="0" lang="hr-HR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четак</a:t>
            </a:r>
            <a:r>
              <a:rPr b="0" lang="hr-HR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фебрилитет</a:t>
            </a:r>
            <a:r>
              <a:rPr b="0" lang="hr-HR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главобољ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2519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вослике</a:t>
            </a:r>
            <a:r>
              <a:rPr b="0" lang="hr-HR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фотофобија</a:t>
            </a:r>
            <a:r>
              <a:rPr b="0" lang="hr-HR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едем</a:t>
            </a:r>
            <a:r>
              <a:rPr b="0" lang="hr-HR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рбите</a:t>
            </a:r>
            <a:r>
              <a:rPr b="0" lang="hr-HR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егзофталму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2519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фталмоплегија</a:t>
            </a:r>
            <a:r>
              <a:rPr b="0" lang="hr-HR" sz="2000" spc="-1" strike="noStrike">
                <a:solidFill>
                  <a:srgbClr val="025198"/>
                </a:solidFill>
                <a:latin typeface="Arial"/>
              </a:rPr>
              <a:t> –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нтерна</a:t>
            </a:r>
            <a:r>
              <a:rPr b="0" lang="hr-HR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hr-HR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екстер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2519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Едем</a:t>
            </a:r>
            <a:r>
              <a:rPr b="0" lang="hr-HR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апиле</a:t>
            </a:r>
            <a:r>
              <a:rPr b="0" lang="hr-HR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чног</a:t>
            </a:r>
            <a:r>
              <a:rPr b="0" lang="hr-HR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живца</a:t>
            </a:r>
            <a:r>
              <a:rPr b="0" lang="hr-HR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рварење</a:t>
            </a:r>
            <a:r>
              <a:rPr b="0" lang="hr-HR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hr-HR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ретину</a:t>
            </a:r>
            <a:r>
              <a:rPr b="0" lang="hr-HR" sz="2000" spc="-1" strike="noStrike">
                <a:solidFill>
                  <a:srgbClr val="025198"/>
                </a:solidFill>
                <a:latin typeface="Arial"/>
              </a:rPr>
              <a:t> =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губитак</a:t>
            </a:r>
            <a:r>
              <a:rPr b="0" lang="hr-HR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ви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2519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ремећај</a:t>
            </a:r>
            <a:r>
              <a:rPr b="0" lang="hr-HR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ве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2"/>
          <p:cNvSpPr/>
          <p:nvPr/>
        </p:nvSpPr>
        <p:spPr>
          <a:xfrm>
            <a:off x="468360" y="18900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ОДОНТОГЕНЕ</a:t>
            </a:r>
            <a:r>
              <a:rPr b="1" lang="hr-H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ИНФЕК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468360" y="1197000"/>
            <a:ext cx="8353440" cy="54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Индикације</a:t>
            </a:r>
            <a:r>
              <a:rPr b="1" lang="hr-HR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за</a:t>
            </a:r>
            <a:r>
              <a:rPr b="1" lang="hr-HR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упућивање</a:t>
            </a:r>
            <a:r>
              <a:rPr b="1" lang="hr-HR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пацијента</a:t>
            </a:r>
            <a:r>
              <a:rPr b="1" lang="hr-HR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1" lang="hr-HR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болниц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2519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брзо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прогресивни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целулит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2519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диспне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2519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дисфаг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2519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ширење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инфекције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дубоке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фасцијалне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просто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2519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фебрилитет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 &gt;38º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2519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јачи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тризмус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 (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размак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између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секутића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 &lt; 1 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цм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2519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пацијент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који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вероватно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неће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узимати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препоручене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леко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2519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неуспех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иницијалног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лечењ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2519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теже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поремећено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опште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ст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2519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имунокомпромитовани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болесници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25198"/>
                </a:solidFill>
                <a:latin typeface="Arial"/>
              </a:rPr>
              <a:t>(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дијабетичари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алкохоличари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потхрањени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имуносупресивна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терапија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ХИВ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инфекција</a:t>
            </a:r>
            <a:r>
              <a:rPr b="1" lang="en-US" sz="1800" spc="-1" strike="noStrike">
                <a:solidFill>
                  <a:srgbClr val="025198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54000" y="1052280"/>
            <a:ext cx="90360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 algn="just">
              <a:spcBef>
                <a:spcPts val="10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900" spc="-1" strike="noStrike">
                <a:solidFill>
                  <a:srgbClr val="025198"/>
                </a:solidFill>
                <a:latin typeface="Arial"/>
              </a:rPr>
              <a:t>С</a:t>
            </a:r>
            <a:r>
              <a:rPr b="1" lang="sr-CS" sz="1900" spc="-1" strike="noStrike">
                <a:solidFill>
                  <a:srgbClr val="025198"/>
                </a:solidFill>
                <a:latin typeface="Arial"/>
              </a:rPr>
              <a:t>ерозно</a:t>
            </a:r>
            <a:r>
              <a:rPr b="1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Latn-CS" sz="1900" spc="-1" strike="noStrike">
                <a:solidFill>
                  <a:srgbClr val="025198"/>
                </a:solidFill>
                <a:latin typeface="Arial"/>
              </a:rPr>
              <a:t>-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RS" sz="1900" spc="-1" strike="noStrike">
                <a:solidFill>
                  <a:srgbClr val="025198"/>
                </a:solidFill>
                <a:latin typeface="Arial"/>
              </a:rPr>
              <a:t>т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о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знак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незнатног</a:t>
            </a:r>
            <a:r>
              <a:rPr b="0" lang="sr-Latn-C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оштћења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периферних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крвних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судова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на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месту</a:t>
            </a:r>
            <a:r>
              <a:rPr b="0" lang="sr-Latn-C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запаљења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10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900" spc="-1" strike="noStrike">
                <a:solidFill>
                  <a:srgbClr val="025198"/>
                </a:solidFill>
                <a:latin typeface="Arial"/>
              </a:rPr>
              <a:t>Ф</a:t>
            </a:r>
            <a:r>
              <a:rPr b="1" lang="sr-CS" sz="1900" spc="-1" strike="noStrike">
                <a:solidFill>
                  <a:srgbClr val="025198"/>
                </a:solidFill>
                <a:latin typeface="Arial"/>
              </a:rPr>
              <a:t>иброзно</a:t>
            </a:r>
            <a:r>
              <a:rPr b="1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-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код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фиброзног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запаљења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присутна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дијапедеза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плазме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при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чему</a:t>
            </a:r>
            <a:r>
              <a:rPr b="0" lang="sr-Latn-C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фибрински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део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ексудата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крвне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плазме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екстравазално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преципитира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као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фибрин</a:t>
            </a:r>
            <a:r>
              <a:rPr b="0" lang="sr-Latn-RS" sz="1900" spc="-1" strike="noStrike">
                <a:solidFill>
                  <a:srgbClr val="025198"/>
                </a:solidFill>
                <a:latin typeface="Arial"/>
              </a:rPr>
              <a:t>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10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900" spc="-1" strike="noStrike">
                <a:solidFill>
                  <a:srgbClr val="025198"/>
                </a:solidFill>
                <a:latin typeface="Arial"/>
              </a:rPr>
              <a:t>Г</a:t>
            </a:r>
            <a:r>
              <a:rPr b="1" lang="sr-CS" sz="1900" spc="-1" strike="noStrike">
                <a:solidFill>
                  <a:srgbClr val="025198"/>
                </a:solidFill>
                <a:latin typeface="Arial"/>
              </a:rPr>
              <a:t>нојно</a:t>
            </a:r>
            <a:r>
              <a:rPr b="1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-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за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гнојно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запаљење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карактеристична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дијапедеза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леукоцита</a:t>
            </a:r>
            <a:r>
              <a:rPr b="0" lang="sr-Latn-RS" sz="1900" spc="-1" strike="noStrike">
                <a:solidFill>
                  <a:srgbClr val="025198"/>
                </a:solidFill>
                <a:latin typeface="Arial"/>
              </a:rPr>
              <a:t>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10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900" spc="-1" strike="noStrike">
                <a:solidFill>
                  <a:srgbClr val="025198"/>
                </a:solidFill>
                <a:latin typeface="Arial"/>
              </a:rPr>
              <a:t>Ф</a:t>
            </a:r>
            <a:r>
              <a:rPr b="1" lang="sr-CS" sz="1900" spc="-1" strike="noStrike">
                <a:solidFill>
                  <a:srgbClr val="025198"/>
                </a:solidFill>
                <a:latin typeface="Arial"/>
              </a:rPr>
              <a:t>легмонозно</a:t>
            </a:r>
            <a:r>
              <a:rPr b="1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-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запаљење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продире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преко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перифокалног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едема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околину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шири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sr-Latn-C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помоћу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бактеријских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фермената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хијалуронидазе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фибринолизира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околне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међућелијске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просторе</a:t>
            </a:r>
            <a:r>
              <a:rPr b="0" lang="sr-RS" sz="1900" spc="-1" strike="noStrike">
                <a:solidFill>
                  <a:srgbClr val="025198"/>
                </a:solidFill>
                <a:latin typeface="Arial"/>
              </a:rPr>
              <a:t>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10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900" spc="-1" strike="noStrike">
                <a:solidFill>
                  <a:srgbClr val="025198"/>
                </a:solidFill>
                <a:latin typeface="Arial"/>
              </a:rPr>
              <a:t>Г</a:t>
            </a:r>
            <a:r>
              <a:rPr b="1" lang="sr-CS" sz="1900" spc="-1" strike="noStrike">
                <a:solidFill>
                  <a:srgbClr val="025198"/>
                </a:solidFill>
                <a:latin typeface="Arial"/>
              </a:rPr>
              <a:t>ангренозно</a:t>
            </a:r>
            <a:r>
              <a:rPr b="1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-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запаљење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може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да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развије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из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гнојног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или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некротичног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запаљења</a:t>
            </a:r>
            <a:r>
              <a:rPr b="0" lang="sr-Latn-C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путем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суперинфекције</a:t>
            </a:r>
            <a:r>
              <a:rPr b="0" lang="sr-RS" sz="1900" spc="-1" strike="noStrike">
                <a:solidFill>
                  <a:srgbClr val="025198"/>
                </a:solidFill>
                <a:latin typeface="Arial"/>
              </a:rPr>
              <a:t>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10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900" spc="-1" strike="noStrike">
                <a:solidFill>
                  <a:srgbClr val="025198"/>
                </a:solidFill>
                <a:latin typeface="Arial"/>
              </a:rPr>
              <a:t>Х</a:t>
            </a:r>
            <a:r>
              <a:rPr b="1" lang="sr-CS" sz="1900" spc="-1" strike="noStrike">
                <a:solidFill>
                  <a:srgbClr val="025198"/>
                </a:solidFill>
                <a:latin typeface="Arial"/>
              </a:rPr>
              <a:t>еморагично</a:t>
            </a:r>
            <a:r>
              <a:rPr b="1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-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код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хемораги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ч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ног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запаљења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првом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плану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еритро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-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дијапедеза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која</a:t>
            </a:r>
            <a:r>
              <a:rPr b="0" lang="sr-Latn-C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настаје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услед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тешких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оштећења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крвних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судова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пределу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запаљењског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процеса</a:t>
            </a:r>
            <a:r>
              <a:rPr b="0" lang="sr-RS" sz="1900" spc="-1" strike="noStrike">
                <a:solidFill>
                  <a:srgbClr val="025198"/>
                </a:solidFill>
                <a:latin typeface="Arial"/>
              </a:rPr>
              <a:t>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10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900" spc="-1" strike="noStrike">
                <a:solidFill>
                  <a:srgbClr val="025198"/>
                </a:solidFill>
                <a:latin typeface="Arial"/>
              </a:rPr>
              <a:t>Н</a:t>
            </a:r>
            <a:r>
              <a:rPr b="1" lang="sr-CS" sz="1900" spc="-1" strike="noStrike">
                <a:solidFill>
                  <a:srgbClr val="025198"/>
                </a:solidFill>
                <a:latin typeface="Arial"/>
              </a:rPr>
              <a:t>екротично</a:t>
            </a:r>
            <a:r>
              <a:rPr b="1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-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запаљење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манифестује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некрозом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ткива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уз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присуство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мале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количине</a:t>
            </a:r>
            <a:r>
              <a:rPr b="0" lang="sr-Latn-C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фибринозног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ексудата</a:t>
            </a:r>
            <a:r>
              <a:rPr b="0" lang="sr-RS" sz="19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ВРСТЕ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ИНФЕКЦ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ЗНАЦИ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ЗАПАЉЕЊ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55640" y="17002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25198"/>
                </a:solidFill>
                <a:latin typeface="Arial"/>
              </a:rPr>
              <a:t>Општи</a:t>
            </a:r>
            <a:r>
              <a:rPr b="1" lang="en-US" sz="2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25198"/>
                </a:solidFill>
                <a:latin typeface="Arial"/>
              </a:rPr>
              <a:t>знаци</a:t>
            </a:r>
            <a:r>
              <a:rPr b="1" lang="en-US" sz="2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25198"/>
                </a:solidFill>
                <a:latin typeface="Arial"/>
              </a:rPr>
              <a:t>запаљења</a:t>
            </a:r>
            <a:r>
              <a:rPr b="1" lang="en-US" sz="2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манифестују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роменом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телесн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температур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роменам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крвној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лиц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као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метњам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крвотоку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.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Овом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треб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додат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општу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нтоксикацију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(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токсемију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бактеријемију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ептикемију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ептикопиемију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25198"/>
                </a:solidFill>
                <a:latin typeface="Arial"/>
              </a:rPr>
              <a:t>Локални</a:t>
            </a:r>
            <a:r>
              <a:rPr b="1" lang="sr-Latn-CS" sz="2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25198"/>
                </a:solidFill>
                <a:latin typeface="Arial"/>
              </a:rPr>
              <a:t>знаци</a:t>
            </a:r>
            <a:r>
              <a:rPr b="1" lang="sr-Latn-CS" sz="2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25198"/>
                </a:solidFill>
                <a:latin typeface="Arial"/>
              </a:rPr>
              <a:t>запаљења</a:t>
            </a:r>
            <a:r>
              <a:rPr b="1" lang="sr-Latn-CS" sz="2800" spc="-1" strike="noStrike">
                <a:solidFill>
                  <a:srgbClr val="025198"/>
                </a:solidFill>
                <a:latin typeface="Arial"/>
              </a:rPr>
              <a:t>.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Целзус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Гален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у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описали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ет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имптома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: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оток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sr-Latn-CS" sz="2400" spc="-1" strike="noStrike">
                <a:solidFill>
                  <a:srgbClr val="025198"/>
                </a:solidFill>
                <a:latin typeface="Arial"/>
              </a:rPr>
              <a:t>(tumor),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бол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sr-Latn-CS" sz="2400" spc="-1" strike="noStrike">
                <a:solidFill>
                  <a:srgbClr val="025198"/>
                </a:solidFill>
                <a:latin typeface="Arial"/>
              </a:rPr>
              <a:t>(dolor),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црвенило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sr-Latn-CS" sz="2400" spc="-1" strike="noStrike">
                <a:solidFill>
                  <a:srgbClr val="025198"/>
                </a:solidFill>
                <a:latin typeface="Arial"/>
              </a:rPr>
              <a:t>(rubor),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овишење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температуре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sr-Latn-CS" sz="2400" spc="-1" strike="noStrike">
                <a:solidFill>
                  <a:srgbClr val="025198"/>
                </a:solidFill>
                <a:latin typeface="Arial"/>
              </a:rPr>
              <a:t>(calor),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оремећај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функције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sr-Latn-CS" sz="2400" spc="-1" strike="noStrike">
                <a:solidFill>
                  <a:srgbClr val="025198"/>
                </a:solidFill>
                <a:latin typeface="Arial"/>
              </a:rPr>
              <a:t>(functio laes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809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УЗРОЦИ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ИНФЕКЦ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60360" y="1773000"/>
            <a:ext cx="835488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Одонтогени узроци у пределу лица и вилица су узрок инфекције у преко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90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одсто случајев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о учесталости узроци инфекције су најчешћ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: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апикални пародонтитис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нфекција после екстракције зуб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отежано ницање умњак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25198"/>
                </a:solidFill>
                <a:latin typeface="Arial"/>
              </a:rPr>
              <a:t>(</a:t>
            </a:r>
            <a:r>
              <a:rPr b="0" i="1" lang="sr-CS" sz="2400" spc="-1" strike="noStrike">
                <a:solidFill>
                  <a:srgbClr val="025198"/>
                </a:solidFill>
                <a:latin typeface="Arial"/>
              </a:rPr>
              <a:t>dentition difficilis</a:t>
            </a:r>
            <a:r>
              <a:rPr b="0" i="1" lang="en-US" sz="2400" spc="-1" strike="noStrike">
                <a:solidFill>
                  <a:srgbClr val="025198"/>
                </a:solidFill>
                <a:latin typeface="Arial"/>
              </a:rPr>
              <a:t>),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маргинални пародонтитис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нфицирани заостаци коренова зуб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нфициране цисте и др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АПИКАЛНИ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ПАРОДОНТИТИ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362800" cy="52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д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апикални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ародонтитисо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дразумевам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апаљењ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ародонцијум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делу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апекс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уб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н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ож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м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акутн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ал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натн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чешћ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хроничан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ок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Апикалн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ародонтитис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век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следиц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екроз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улп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след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раум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(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онтузиј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ли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луксациј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уб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грејавањ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брушењ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уб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)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л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хемијског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штећењ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(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атеријал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а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уњењ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)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ал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пак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јчешћ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ста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а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следиц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аријес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ој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лаз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улпитис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ад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олази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екроз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улп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чем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иоген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бактери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о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лаз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улп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овод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нфекције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ародонцијум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од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акутног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блик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ем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временског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нтервал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већ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апаљењ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шир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цео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ародонцију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ам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фаз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апаљењ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ародонцијум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врл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ратк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чест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кривен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акутним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апаљење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оштаног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кив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ак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говор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акутно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апикално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ститис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л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зв</a:t>
            </a:r>
            <a:r>
              <a:rPr b="0" lang="sr-RS" sz="2000" spc="-1" strike="noStrike">
                <a:solidFill>
                  <a:srgbClr val="025198"/>
                </a:solidFill>
                <a:latin typeface="Arial"/>
              </a:rPr>
              <a:t>.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ентоалвеоларно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абсцесу</a:t>
            </a:r>
            <a:r>
              <a:rPr b="0" lang="sr-RS" sz="20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520" y="2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ПАРОДОНТАЛНИ</a:t>
            </a:r>
            <a:r>
              <a:rPr b="1" lang="sr-Latn-C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АПСЦЕ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9280" y="1619280"/>
            <a:ext cx="5106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69560" indent="-16956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а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зрок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ентоген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нфекци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ста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след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едостатка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ентогингивалног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ипој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9560" indent="-16956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твар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чешћ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рад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нфекциј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џеп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ој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тпомогнута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аргинално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разградњо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ост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убни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аменце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екоректни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ломбам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(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убним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спуним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)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лошо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хигијено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р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9560" indent="-16956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арактериш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г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ерозн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л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гнојн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апаљењ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џеп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о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овод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локалног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апаљења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дел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гингив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апаљењ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јчешћ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мај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хроничан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ок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ож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оћ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акутне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егзацербаци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7" descr="Tooth-Abscess-3"/>
          <p:cNvPicPr/>
          <p:nvPr/>
        </p:nvPicPr>
        <p:blipFill>
          <a:blip r:embed="rId2"/>
          <a:stretch/>
        </p:blipFill>
        <p:spPr>
          <a:xfrm>
            <a:off x="5516640" y="1598760"/>
            <a:ext cx="3352680" cy="22096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ANd9GcRf8Tw1dhlLP9lbka1GUd6K6jqoiOuFPv5Fh6AvU-o9XIL01s0V"/>
          <p:cNvPicPr/>
          <p:nvPr/>
        </p:nvPicPr>
        <p:blipFill>
          <a:blip r:embed="rId3"/>
          <a:stretch/>
        </p:blipFill>
        <p:spPr>
          <a:xfrm>
            <a:off x="5516640" y="4076640"/>
            <a:ext cx="3352680" cy="21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ilos</cp:lastModifiedBy>
  <dcterms:modified xsi:type="dcterms:W3CDTF">2015-09-02T10:25:21Z</dcterms:modified>
  <cp:revision>739</cp:revision>
  <dc:subject/>
  <dc:title>Diapositiva 1</dc:title>
</cp:coreProperties>
</file>